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20.png" ContentType="image/png"/>
  <Override PartName="/ppt/media/image6.jpeg" ContentType="image/jpeg"/>
  <Override PartName="/ppt/media/image5.jpeg" ContentType="image/jpeg"/>
  <Override PartName="/ppt/media/image22.png" ContentType="image/png"/>
  <Override PartName="/ppt/media/image21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9.jpeg" ContentType="image/jpeg"/>
  <Override PartName="/ppt/media/image24.png" ContentType="image/png"/>
  <Override PartName="/ppt/media/image1.png" ContentType="image/png"/>
  <Override PartName="/ppt/media/image17.jpeg" ContentType="image/jpeg"/>
  <Override PartName="/ppt/media/image3.png" ContentType="image/png"/>
  <Override PartName="/ppt/media/image4.jpeg" ContentType="image/jpe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D95D5-060E-45D7-A90D-B2411CD55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509AF-7C25-40F5-9F3A-2EB253D54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86AEA-666F-4004-97CF-91C2E82B7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B5007-4F0D-4026-BF85-D896D269E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D832C-64A3-4161-9A93-A56BB7DC8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23B6A-2D51-48D1-9763-8681A86FC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1C2AA-0F27-4F1A-A424-5F4D65080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04824-A88F-4346-9C17-41C99511F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7627E-3095-4A69-949F-ACA9C8E96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1DF89-0A55-467C-8218-57D5FC3F9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F940A-34AC-4EFE-AE85-D83E87295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1E01A-AFE6-4D1D-ADCC-AAED8C6F5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7647"/>
            </a:gs>
            <a:gs pos="100000">
              <a:srgbClr val="00ff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D6FC2-AE7A-41DB-A063-9808455125F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Planetární geografie</a:t>
            </a:r>
            <a:br>
              <a:rPr sz="4400"/>
            </a:b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autor: Tereza Kamenická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11280" y="4005360"/>
            <a:ext cx="8532720" cy="25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stavení Země ve Vesmír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var, velikost, pohyby Země a jejich důsledk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ěření času na Zem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7" descr="nadotek"/>
          <p:cNvPicPr/>
          <p:nvPr/>
        </p:nvPicPr>
        <p:blipFill>
          <a:blip r:embed="rId1"/>
          <a:stretch/>
        </p:blipFill>
        <p:spPr>
          <a:xfrm>
            <a:off x="2050920" y="1557360"/>
            <a:ext cx="2381400" cy="20764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9" descr="3_loga-upraveno"/>
          <p:cNvPicPr/>
          <p:nvPr/>
        </p:nvPicPr>
        <p:blipFill>
          <a:blip r:embed="rId2"/>
          <a:stretch/>
        </p:blipFill>
        <p:spPr>
          <a:xfrm>
            <a:off x="4500720" y="1557360"/>
            <a:ext cx="2381040" cy="204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Země a Měsí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628280"/>
            <a:ext cx="777240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znik před 4,6mld l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znik Měsí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zniká jádro, plášť a ků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raatmosféra – CO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vodní pára a dusí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chlaze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znik moří a oceánů, svítí Slu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znik života – 3,5mld. l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Tvar Země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268280"/>
            <a:ext cx="7631280" cy="48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již v antice se objevuje tvrzení o kulatosti Zem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e 2. polovině 18 století „stupňová“ měření francouzské Akademie vě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ge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eferenční elips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eferenční kou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6" descr="geoid"/>
          <p:cNvPicPr/>
          <p:nvPr/>
        </p:nvPicPr>
        <p:blipFill>
          <a:blip r:embed="rId1"/>
          <a:stretch/>
        </p:blipFill>
        <p:spPr>
          <a:xfrm>
            <a:off x="5799240" y="3500280"/>
            <a:ext cx="334476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d321d"/>
                </a:solidFill>
                <a:latin typeface="Arial"/>
              </a:rPr>
              <a:t>Do příští hodiny zjistěte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loměr na rovníku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loměr k pólu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ka rovníku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locha Země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Picture 5" descr="kniha | na serveru Lidovky.cz | aktuální zprávy"/>
          <p:cNvPicPr/>
          <p:nvPr/>
        </p:nvPicPr>
        <p:blipFill>
          <a:blip r:embed="rId1"/>
          <a:stretch/>
        </p:blipFill>
        <p:spPr>
          <a:xfrm>
            <a:off x="4356000" y="4078440"/>
            <a:ext cx="4788000" cy="27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3814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Měsí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489744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čtyřikrát menší poloměr než Zem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vný povrch – krátery, moř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bíhá kolem Země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táčí se kolem vlastní os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vidíme stále stejnou stranu Měsíce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1969 – Apollo – Neil Armstrong, Edwin Aldrin, Michael Colli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Picture 5" descr="M&amp;ecaron;síc"/>
          <p:cNvPicPr/>
          <p:nvPr/>
        </p:nvPicPr>
        <p:blipFill>
          <a:blip r:embed="rId1"/>
          <a:stretch/>
        </p:blipFill>
        <p:spPr>
          <a:xfrm>
            <a:off x="5199120" y="0"/>
            <a:ext cx="3944880" cy="47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9516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Odvrácená strana Měsí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" descr="Odvrácená strana Měsíce"/>
          <p:cNvPicPr/>
          <p:nvPr/>
        </p:nvPicPr>
        <p:blipFill>
          <a:blip r:embed="rId2"/>
          <a:stretch/>
        </p:blipFill>
        <p:spPr>
          <a:xfrm>
            <a:off x="0" y="762120"/>
            <a:ext cx="914400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5" descr="faze_res.jpg"/>
          <p:cNvPicPr/>
          <p:nvPr/>
        </p:nvPicPr>
        <p:blipFill>
          <a:blip r:embed="rId1"/>
          <a:stretch/>
        </p:blipFill>
        <p:spPr>
          <a:xfrm>
            <a:off x="900000" y="12600"/>
            <a:ext cx="7632720" cy="684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Měsíční fá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5" descr="Jednotlivé fáze m&amp;ecaron;síce"/>
          <p:cNvPicPr/>
          <p:nvPr/>
        </p:nvPicPr>
        <p:blipFill>
          <a:blip r:embed="rId1"/>
          <a:stretch/>
        </p:blipFill>
        <p:spPr>
          <a:xfrm>
            <a:off x="0" y="2021040"/>
            <a:ext cx="9144000" cy="48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Zatmění Slunce a Měsí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obrázek 1" descr=""/>
          <p:cNvPicPr/>
          <p:nvPr/>
        </p:nvPicPr>
        <p:blipFill>
          <a:blip r:embed="rId1"/>
          <a:srcRect l="50241" t="56165" r="0" b="0"/>
          <a:stretch/>
        </p:blipFill>
        <p:spPr>
          <a:xfrm>
            <a:off x="4884840" y="1844640"/>
            <a:ext cx="4259160" cy="50133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" descr=""/>
          <p:cNvPicPr/>
          <p:nvPr/>
        </p:nvPicPr>
        <p:blipFill>
          <a:blip r:embed="rId2"/>
          <a:srcRect l="0" t="56165" r="51759" b="24810"/>
          <a:stretch/>
        </p:blipFill>
        <p:spPr>
          <a:xfrm>
            <a:off x="0" y="1844640"/>
            <a:ext cx="4788000" cy="25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Picture 7" descr="sun09"/>
          <p:cNvPicPr/>
          <p:nvPr/>
        </p:nvPicPr>
        <p:blipFill>
          <a:blip r:embed="rId1"/>
          <a:srcRect l="7488" t="0" r="3272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8"/>
          <p:cNvSpPr/>
          <p:nvPr/>
        </p:nvSpPr>
        <p:spPr>
          <a:xfrm>
            <a:off x="0" y="5715000"/>
            <a:ext cx="4500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d321d"/>
                </a:solidFill>
                <a:latin typeface="Times New Roman"/>
              </a:rPr>
              <a:t>zatmění Slu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5" descr="foto"/>
          <p:cNvPicPr/>
          <p:nvPr/>
        </p:nvPicPr>
        <p:blipFill>
          <a:blip r:embed="rId1"/>
          <a:srcRect l="0" t="5901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7"/>
          <p:cNvSpPr/>
          <p:nvPr/>
        </p:nvSpPr>
        <p:spPr>
          <a:xfrm>
            <a:off x="-324000" y="5715000"/>
            <a:ext cx="5977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d321d"/>
                </a:solidFill>
                <a:latin typeface="Times New Roman"/>
              </a:rPr>
              <a:t>zatmění Měsí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Dvě základní teorie o postavení Země ve Vesmíru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geocentrický názo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– Aristoteles, Ptolemaios, tento názor zastávala círke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heliocentrický názo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- Aristarchos, v 16 a 17.st Kepler, Galileo, Koperník, Newt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Pohyby Země a jejich důsledk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bíhá kolem Slu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táčí se kolem své o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polečně s Měsícem rotuje kolem společného těžišt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Oběh Země kolem Slu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obrázek 7" descr="C:\Documents and Settings\necesana\Local Settings\Temporary Internet Files\Content.Word\KMBT_C20020100927093732~2.jpg"/>
          <p:cNvPicPr/>
          <p:nvPr/>
        </p:nvPicPr>
        <p:blipFill>
          <a:blip r:embed="rId1"/>
          <a:srcRect l="0" t="0" r="0" b="69624"/>
          <a:stretch/>
        </p:blipFill>
        <p:spPr>
          <a:xfrm>
            <a:off x="0" y="1989000"/>
            <a:ext cx="9144000" cy="389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otace Země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302436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Země se otáčí kolem své osy od západu k východu. Při pohledu ze severní polokoule se otáčí proti směru pohybu hodinových ručiček. Jedno otočení kolem vlastní osy vůči Slunci se nazývá sluneční den a trvá 24 hodin. Naše Země rotuje kolem vlastní osy, ale zároveň obíhá ve stejném smyslu kolem Slunce. Posune se tedy každý den o malý kousek na oběžné dráze. Země se tedy do stejné polohy vůči hvězdám dostane za kratší dobu, a sice za tzv. hvězdný den, který trvá 23 hodin 56 minut a 4,9 sekund a hvězdy se tedy každý den objevují na obloze o čtyři minuty dřív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Picture 5" descr="zemeaslunce01"/>
          <p:cNvPicPr/>
          <p:nvPr/>
        </p:nvPicPr>
        <p:blipFill>
          <a:blip r:embed="rId1"/>
          <a:stretch/>
        </p:blipFill>
        <p:spPr>
          <a:xfrm>
            <a:off x="3300480" y="1104840"/>
            <a:ext cx="5843520" cy="575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Rotace Země a Měsíce kolem barycentr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Picture 5" descr="Rotace systému Zem&amp;ecaron; – M&amp;ecaron;síc"/>
          <p:cNvPicPr/>
          <p:nvPr/>
        </p:nvPicPr>
        <p:blipFill>
          <a:blip r:embed="rId1"/>
          <a:stretch/>
        </p:blipFill>
        <p:spPr>
          <a:xfrm>
            <a:off x="2124000" y="1898640"/>
            <a:ext cx="5040360" cy="495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00000" y="692280"/>
            <a:ext cx="7772400" cy="273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Gravitační síly, kterými působí Měsíc na Zemi.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Gravitační síla Měsíce působící na všechny objekty na Zemi je vyznačena šipkami. Délka šipek je úměrná velikosti síly a jejich orientace vyznačuje směr a smysl jejího působení. Vzdálenost Země – Měsíc neodpovídá měřítku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Picture 5" descr="Gravita&amp;ccaron;ní síly, kterými p&amp;uring;sobí M&amp;ecaron;síc na Zemi"/>
          <p:cNvPicPr/>
          <p:nvPr/>
        </p:nvPicPr>
        <p:blipFill>
          <a:blip r:embed="rId1"/>
          <a:stretch/>
        </p:blipFill>
        <p:spPr>
          <a:xfrm>
            <a:off x="1692360" y="3933720"/>
            <a:ext cx="590544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68360" y="40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ožadované dostředivé síly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Dostředivé síly, které jsou potřebné pro udržení stejně velkých částic na stejných drahách v soustavě Země – Měsíc, rotující kolem společného těžiště. Všimněte si, že šipky mají stejnou velikost a směr. Bod Z označuje zenit (nadhlavník), bod N nadir (podnožník)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Picture 5" descr="Požadované dostředivé síly."/>
          <p:cNvPicPr/>
          <p:nvPr/>
        </p:nvPicPr>
        <p:blipFill>
          <a:blip r:embed="rId1"/>
          <a:stretch/>
        </p:blipFill>
        <p:spPr>
          <a:xfrm>
            <a:off x="2700360" y="4384800"/>
            <a:ext cx="4175280" cy="247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4360" y="333000"/>
            <a:ext cx="7772400" cy="30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Výsledné síly.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Červené šipky označují hodnotu požadované dostředivé síly (C), která není totožná s černými šipkami vyznačujícími síly gravitační (G). Malé modré šipky označují rozdíly hodnot skutečně působící a požadované síly. Bod Z označuje zenit (nadhlavník), bod N nadir. Vzdálenost Země – Měsíc ani skutečná velikost sil neodpovídají měřítku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Picture 5" descr="Výsledné síly"/>
          <p:cNvPicPr/>
          <p:nvPr/>
        </p:nvPicPr>
        <p:blipFill>
          <a:blip r:embed="rId1"/>
          <a:stretch/>
        </p:blipFill>
        <p:spPr>
          <a:xfrm>
            <a:off x="1763640" y="3543480"/>
            <a:ext cx="5905440" cy="33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Picture 5" descr="Idealizovaná slapová dmutí"/>
          <p:cNvPicPr/>
          <p:nvPr/>
        </p:nvPicPr>
        <p:blipFill>
          <a:blip r:embed="rId1"/>
          <a:stretch/>
        </p:blipFill>
        <p:spPr>
          <a:xfrm>
            <a:off x="2124000" y="2287440"/>
            <a:ext cx="5689800" cy="457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Picture 5" descr="Souvislost uspo&amp;rcaron;ádání t&amp;ecaron;les v soustav&amp;ecaron; Zem&amp;ecaron; – Slunce – M&amp;ecaron;síc a slapových jev&amp;uring;"/>
          <p:cNvPicPr/>
          <p:nvPr/>
        </p:nvPicPr>
        <p:blipFill>
          <a:blip r:embed="rId1"/>
          <a:stretch/>
        </p:blipFill>
        <p:spPr>
          <a:xfrm>
            <a:off x="900000" y="960480"/>
            <a:ext cx="7632720" cy="589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Zdroje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971640" y="3573360"/>
            <a:ext cx="7772400" cy="48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znik před cca. 15-20mld. l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orie velkého třesk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5" descr="pouzijte-tlacitko-sdilet"/>
          <p:cNvPicPr/>
          <p:nvPr/>
        </p:nvPicPr>
        <p:blipFill>
          <a:blip r:embed="rId1"/>
          <a:stretch/>
        </p:blipFill>
        <p:spPr>
          <a:xfrm>
            <a:off x="5429160" y="3629160"/>
            <a:ext cx="9720" cy="93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7" descr="vesmír"/>
          <p:cNvPicPr/>
          <p:nvPr/>
        </p:nvPicPr>
        <p:blipFill>
          <a:blip r:embed="rId2"/>
          <a:stretch/>
        </p:blipFill>
        <p:spPr>
          <a:xfrm>
            <a:off x="0" y="20520"/>
            <a:ext cx="9144000" cy="683748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9"/>
          <p:cNvSpPr/>
          <p:nvPr/>
        </p:nvSpPr>
        <p:spPr>
          <a:xfrm>
            <a:off x="82692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8fd1d"/>
                </a:solidFill>
                <a:latin typeface="Times New Roman"/>
              </a:rPr>
              <a:t>Vesmí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324000" y="141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8fd1d"/>
                </a:solidFill>
                <a:latin typeface="Times New Roman"/>
              </a:rPr>
              <a:t>vznik cca. před 15-20mld. let</a:t>
            </a:r>
            <a:br>
              <a:rPr sz="4000"/>
            </a:br>
            <a:r>
              <a:rPr b="0" lang="cs-CZ" sz="4000" spc="-1" strike="noStrike">
                <a:solidFill>
                  <a:srgbClr val="f8fd1d"/>
                </a:solidFill>
                <a:latin typeface="Times New Roman"/>
              </a:rPr>
              <a:t>Teorie velkého třesku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Galax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052280"/>
            <a:ext cx="7772400" cy="50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aše Galaxie má přibližně 150mld. hvěz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léčná dráha je částí naší Galax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 spirální, má tvar disku a Slunce leží na okraji jedné spirá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5" descr="galaxie"/>
          <p:cNvPicPr/>
          <p:nvPr/>
        </p:nvPicPr>
        <p:blipFill>
          <a:blip r:embed="rId1"/>
          <a:stretch/>
        </p:blipFill>
        <p:spPr>
          <a:xfrm>
            <a:off x="2627280" y="3317760"/>
            <a:ext cx="3672000" cy="354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uneční sousta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268280"/>
            <a:ext cx="7772400" cy="48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Slu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iná hvězda sluneční soustav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lazma – vodík, hel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rmonukleární reak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áření se šíří rychlostí 300 000km/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řední vzdálenost Země od Slunce je 150mil. km = 1A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áření doletí na Zemi za 8min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oustřeďuje 99,8% hmotnos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uneční sousta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4" descr="dr_david_nesvorn__p_idal_slune_n__soustav__planetu_50c70704dc"/>
          <p:cNvPicPr/>
          <p:nvPr/>
        </p:nvPicPr>
        <p:blipFill>
          <a:blip r:embed="rId1"/>
          <a:stretch/>
        </p:blipFill>
        <p:spPr>
          <a:xfrm>
            <a:off x="0" y="1895400"/>
            <a:ext cx="914400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4" descr="201104070943_solar-system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Plane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197000"/>
            <a:ext cx="77724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svítí vlastním světl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bíhají po eliptických drahách v jejichž společném ohnisku je Slunce – první Keplerův zák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táčí se kolem vlastní o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kolo planet obíhají měsí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lanety zemského typu/velké plane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luto vyřazen v roce 200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Planetk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55640" y="907920"/>
            <a:ext cx="777240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bíhají kolem Slunce hlavně v pásu mezi Marsem a Jupiter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sou tvořeny horninam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Rectangle 4"/>
          <p:cNvSpPr/>
          <p:nvPr/>
        </p:nvSpPr>
        <p:spPr>
          <a:xfrm>
            <a:off x="539640" y="2637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Kometární jád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5"/>
          <p:cNvSpPr/>
          <p:nvPr/>
        </p:nvSpPr>
        <p:spPr>
          <a:xfrm>
            <a:off x="611280" y="3645000"/>
            <a:ext cx="77724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hromný poč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d planetek se liší složením, tvoří je led a zmrzlé ply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ete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eteor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5T08:36:12Z</dcterms:created>
  <dc:creator>Tereza Kamenická</dc:creator>
  <dc:description/>
  <dc:language>en-US</dc:language>
  <cp:lastModifiedBy>Tereza Kamenická</cp:lastModifiedBy>
  <dcterms:modified xsi:type="dcterms:W3CDTF">2015-01-22T13:44:33Z</dcterms:modified>
  <cp:revision>167</cp:revision>
  <dc:subject/>
  <dc:title>Bez nadpisu</dc:title>
</cp:coreProperties>
</file>