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9D16-B045-4ED3-AAF4-A991CACDB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A03-8546-456D-BE1D-C121F1CE4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20E-8461-4AE9-B9A3-122321FD9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A6F8-4381-4F2D-AE97-5B5043927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875-1B0E-4021-B02D-E8C23FE7E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3FC3-8192-4BF0-9D73-139BFB060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BCD9-934E-4106-B8A0-2FD78A7CE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A5B9-9B6A-4551-B987-49F914FA6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2125-D64D-4601-89D3-8CDB612C0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AD46-31E2-446A-B595-7F8A33317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1A9-1CC3-42E7-922F-057013C3F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894-65F6-42DC-9338-85660C957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5B8D-6FC7-41E7-B42A-7E576D190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AC3-ABBA-4AEA-8DC8-0058968F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8D9-C82B-4A7F-B317-B9FD41F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98F-6AF1-4D24-BCBE-06B7AEA8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87F-A2F7-4832-B30D-1D56967F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E75-1A00-4618-9247-B4888BB7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C41-CD0F-44D1-AE96-A92B4F01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986-C8AA-4628-8574-AC2C7440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3CB-4040-4FF8-A674-670A3F2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DC1-8EB4-4E58-83CB-BB76CB49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3C5-6A34-4451-BF85-4D0AFB2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812-B8CC-4EE2-ACAB-45F21EC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350-A371-4994-B850-2F1FA8EF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3986-DA6B-4485-9018-A7D484372D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Umění doby předbělohorské, č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ská renes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délník 1"/>
          <p:cNvSpPr/>
          <p:nvPr/>
        </p:nvSpPr>
        <p:spPr>
          <a:xfrm>
            <a:off x="2286000" y="2951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: Jitka Kod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alác  na Staroměstském náměstí- sgrafitová výzdo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arek\Documents\Bluetooth Exchange Folder\palác.jpg"/>
          <p:cNvPicPr/>
          <p:nvPr/>
        </p:nvPicPr>
        <p:blipFill>
          <a:blip r:embed="rId1"/>
          <a:stretch/>
        </p:blipFill>
        <p:spPr>
          <a:xfrm>
            <a:off x="2484360" y="1628640"/>
            <a:ext cx="417528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ský Krumlov- renes. zámek Viléma z Rožmbe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marek\Documents\Bluetooth Exchange Folder\krumlov.jpg"/>
          <p:cNvPicPr/>
          <p:nvPr/>
        </p:nvPicPr>
        <p:blipFill>
          <a:blip r:embed="rId1"/>
          <a:stretch/>
        </p:blipFill>
        <p:spPr>
          <a:xfrm>
            <a:off x="1957320" y="2119320"/>
            <a:ext cx="52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iér zámku v Krum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arek\Documents\Bluetooth Exchange Folder\interiér.jpg"/>
          <p:cNvPicPr/>
          <p:nvPr/>
        </p:nvPicPr>
        <p:blipFill>
          <a:blip r:embed="rId1"/>
          <a:srcRect l="2997" t="0" r="2997" b="0"/>
          <a:stretch/>
        </p:blipFill>
        <p:spPr>
          <a:xfrm>
            <a:off x="1763640" y="1628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lahozeves – renes. zámek Lobkovic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marek\Documents\Bluetooth Exchange Folder\nelahozeves.jpg"/>
          <p:cNvPicPr/>
          <p:nvPr/>
        </p:nvPicPr>
        <p:blipFill>
          <a:blip r:embed="rId1"/>
          <a:srcRect l="58" t="0" r="58" b="0"/>
          <a:stretch/>
        </p:blipFill>
        <p:spPr>
          <a:xfrm>
            <a:off x="147636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nes. zámek a zahrada v Bučovicí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marek\Documents\Bluetooth Exchange Folder\1-pohled_z_balonu.jpg"/>
          <p:cNvPicPr/>
          <p:nvPr/>
        </p:nvPicPr>
        <p:blipFill>
          <a:blip r:embed="rId1"/>
          <a:srcRect l="0" t="21946" r="0" b="21946"/>
          <a:stretch/>
        </p:blipFill>
        <p:spPr>
          <a:xfrm>
            <a:off x="1692360" y="1700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mek v Litomyš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ANd9GcTjkaVl4FzeFVZ8uKXrDBhtXRssOGbXE8HcZGLxsHwxdI7DzGI&amp;t=1&amp;usg=__HQy8Cn_TTUhfjTxkFV54UopLUy4="/>
          <p:cNvPicPr/>
          <p:nvPr/>
        </p:nvPicPr>
        <p:blipFill>
          <a:blip r:embed="rId1"/>
          <a:stretch/>
        </p:blipFill>
        <p:spPr>
          <a:xfrm>
            <a:off x="1476360" y="1628640"/>
            <a:ext cx="604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nesanční domy ve Slavonicí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marek\Documents\Bluetooth Exchange Folder\slavonice.jpg"/>
          <p:cNvPicPr/>
          <p:nvPr/>
        </p:nvPicPr>
        <p:blipFill>
          <a:blip r:embed="rId1"/>
          <a:srcRect l="0" t="3779" r="0" b="3779"/>
          <a:stretch/>
        </p:blipFill>
        <p:spPr>
          <a:xfrm>
            <a:off x="1547640" y="1628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l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marek\Documents\Bluetooth Exchange Folder\telc_nam.jpg"/>
          <p:cNvPicPr/>
          <p:nvPr/>
        </p:nvPicPr>
        <p:blipFill>
          <a:blip r:embed="rId1"/>
          <a:stretch/>
        </p:blipFill>
        <p:spPr>
          <a:xfrm>
            <a:off x="1258920" y="1557360"/>
            <a:ext cx="7128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Z – Jan Blahoslav-Bible kralická 1579-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. Melantrich z Aventý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niel Adam z Veleslav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onika česká – Václav Hájek z Liboč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opisy do Svaté zem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děla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verzita Karlova- hlavní vliv mají utrakviské- sídlí v Karoli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56- jezuité – Klementinum, tj. univerzita při koleji sv. Klim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73- byla založena jezuitská kolej i v Olomou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írají se jezuitská gymnázia v Jindřichově Hradci, Brně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ans_Bocksberger_der_Aeltere_001"/>
          <p:cNvPicPr/>
          <p:nvPr/>
        </p:nvPicPr>
        <p:blipFill>
          <a:blip r:embed="rId1"/>
          <a:stretch/>
        </p:blipFill>
        <p:spPr>
          <a:xfrm>
            <a:off x="2719440" y="0"/>
            <a:ext cx="370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erdinand I. Habs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Židé v 16. století v Pra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žské ghe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načné postavy: Mordechaj Maizl – půjčuje peníze i samotnému Rudolfovi 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bín Jehuda Lewa ben Becalel (Rabbi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nýri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jem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anýrismu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má v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dvojí význa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astěji je používán v užším smyslu, kdy označuje přechodovou fázi mezi vrcholnou renesancí a barok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nýrismus  či tvorba založená na „manýře“, tj. určitém specifickém uměleckém prostře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 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anýrismu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pochází od italského slova 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anie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– styl, způso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nýri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= umělecký sloh doby od vrcholné renesance až do počátků baroka (v italském umění asi 1520 až 1590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anýrismus se projevil hlavně v malířství a plastice. Typické proporce jsou malá hlava na dlouhém krku a nadměrně protažená figur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lavními představiteli manýrismu v italském umění byl Tintoretto, ve Španělsku El Gre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Praze kvetl manýrismus na dvoře císaře Rudolfa II. (G. Arcimboldo, B. Spranger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známějším světovým manýristou byl španělský malíř řeckého původu El Greco, vlastním jménem Dóménikos Theotokópul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Soubor:El Greco 028.jpg"/>
          <p:cNvPicPr/>
          <p:nvPr/>
        </p:nvPicPr>
        <p:blipFill>
          <a:blip r:embed="rId1"/>
          <a:stretch/>
        </p:blipFill>
        <p:spPr>
          <a:xfrm>
            <a:off x="161928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 Greco – svatá rod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 Greco - Laok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Soubor:El Greco 042.jpg"/>
          <p:cNvPicPr/>
          <p:nvPr/>
        </p:nvPicPr>
        <p:blipFill>
          <a:blip r:embed="rId1"/>
          <a:stretch/>
        </p:blipFill>
        <p:spPr>
          <a:xfrm>
            <a:off x="179280" y="1143000"/>
            <a:ext cx="72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nýri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 Čechách je hlavní období manýrismu spojováno především se dvorem císaře Rudolfa II. V poslední čtvrtině 16. století  se Praha stala významným centrem tohoto slohu, ale po smrti Rudolfa II. se dvorský kruh postupně rozpadl a společně s tzv. „rudolfinským manýrismem“ skončila i etapa renesance v Čechá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 je centrem vědy: působí zde Johannes Kepler, Tycho de Bra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ají sbírky kurioz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ete nejen astronomie ale i astrologie, alchymi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líř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izozemec Bartolomeus Spr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tal Giuseppe Arcimbol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ěmec Hans von Aachen byl mimo vlastní tvorbu také nákupčím Rudolfových uměleckých sbír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ANd9GcS8zOKjhsVYxPM3DSJeCuMSnldMQzec7mbs-N0gSZgkb5TQ6eI&amp;t=1&amp;usg=__vY3jIHANzZq0zT1SkY4xdJCRSY0="/>
          <p:cNvPicPr/>
          <p:nvPr/>
        </p:nvPicPr>
        <p:blipFill>
          <a:blip r:embed="rId1"/>
          <a:stretch/>
        </p:blipFill>
        <p:spPr>
          <a:xfrm>
            <a:off x="2484360" y="1052640"/>
            <a:ext cx="460872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ns von Aachen – Rudolf I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rtrét Rudolfa II. – G. Arcimbol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Soubor:Arcimboldovertemnus.jpeg"/>
          <p:cNvPicPr/>
          <p:nvPr/>
        </p:nvPicPr>
        <p:blipFill>
          <a:blip r:embed="rId1"/>
          <a:stretch/>
        </p:blipFill>
        <p:spPr>
          <a:xfrm>
            <a:off x="1979640" y="1143000"/>
            <a:ext cx="464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Soubor:Maximilian II HRR MATEO.jpg"/>
          <p:cNvPicPr/>
          <p:nvPr/>
        </p:nvPicPr>
        <p:blipFill>
          <a:blip r:embed="rId1"/>
          <a:stretch/>
        </p:blipFill>
        <p:spPr>
          <a:xfrm>
            <a:off x="2484360" y="1152360"/>
            <a:ext cx="3867120" cy="5705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xmilián II. Habs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artholomeus%20Spranger2"/>
          <p:cNvPicPr/>
          <p:nvPr/>
        </p:nvPicPr>
        <p:blipFill>
          <a:blip r:embed="rId1"/>
          <a:stretch/>
        </p:blipFill>
        <p:spPr>
          <a:xfrm>
            <a:off x="2627280" y="1386000"/>
            <a:ext cx="3543480" cy="5472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enuše a Adonis – Bartolomeo Spra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chař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drian de Vries nizozemský sochař a kovolitec, autor soch z antické mytologie, které tvořil i pro zahradu Valdštejnského paláce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drian de Vries – socha Venuše a Adonise, socha Nept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72px-Adrian_de_Vries_Venus_Adonis"/>
          <p:cNvPicPr/>
          <p:nvPr/>
        </p:nvPicPr>
        <p:blipFill>
          <a:blip r:embed="rId1"/>
          <a:stretch/>
        </p:blipFill>
        <p:spPr>
          <a:xfrm>
            <a:off x="755640" y="2060640"/>
            <a:ext cx="273672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80px-Adrian_de_Vries_Neptun"/>
          <p:cNvPicPr/>
          <p:nvPr/>
        </p:nvPicPr>
        <p:blipFill>
          <a:blip r:embed="rId2"/>
          <a:stretch/>
        </p:blipFill>
        <p:spPr>
          <a:xfrm>
            <a:off x="6227640" y="2276640"/>
            <a:ext cx="244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http://www.gjp1.cz/new/oppa2013/nadotek.png"/>
          <p:cNvPicPr/>
          <p:nvPr/>
        </p:nvPicPr>
        <p:blipFill>
          <a:blip r:embed="rId1"/>
          <a:stretch/>
        </p:blipFill>
        <p:spPr>
          <a:xfrm>
            <a:off x="17640" y="282600"/>
            <a:ext cx="4632120" cy="3841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gjp1.cz/new/oppa2013/3_loga-upraveno.png"/>
          <p:cNvPicPr/>
          <p:nvPr/>
        </p:nvPicPr>
        <p:blipFill>
          <a:blip r:embed="rId2"/>
          <a:stretch/>
        </p:blipFill>
        <p:spPr>
          <a:xfrm>
            <a:off x="4649760" y="347760"/>
            <a:ext cx="44229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é zdroj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ttps://www.google.cz/search?q=%C4%8Desk%C3%A9+renesan%C4%8Dn%C3%AD+um%C4%9Bn%C3%AD&amp;biw=1280&amp;bih=699&amp;source=lnms&amp;tbm=isch&amp;sa=X&amp;ei=jLPYVL2bOMjsaNrrgbAN&amp;ved=0CAYQ_AUoA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ttp://dejiny.archii.cz/renesanc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oubor:Hans von Aachen 003.jpg"/>
          <p:cNvPicPr/>
          <p:nvPr/>
        </p:nvPicPr>
        <p:blipFill>
          <a:blip r:embed="rId1"/>
          <a:stretch/>
        </p:blipFill>
        <p:spPr>
          <a:xfrm>
            <a:off x="2411280" y="1197000"/>
            <a:ext cx="4608720" cy="5661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dolf I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517680"/>
            <a:ext cx="914400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5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</a:t>
            </a:r>
            <a:br>
              <a:rPr sz="1800"/>
            </a:b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elikost tohoto náhledu je: 421 × 599 pixel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oubor:Lucas van Valckenborch 003.jpg"/>
          <p:cNvPicPr/>
          <p:nvPr/>
        </p:nvPicPr>
        <p:blipFill>
          <a:blip r:embed="rId1"/>
          <a:stretch/>
        </p:blipFill>
        <p:spPr>
          <a:xfrm>
            <a:off x="2627280" y="1152360"/>
            <a:ext cx="4010040" cy="570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yáš Habs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rchitek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nesanční přestavba Pražského hradu, letohrádek královny Anny, letohrádek Hvěz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541 – požár na Malé Straně a na Hradčanech, následně vše nově vystavě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nes. paláce: Schwarzenberský palá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mky: Nelahozeves, Telč, Náměšť, Bučovice, Litomyšl, Pardubice, Český Krumlov, Třebo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a: Telč, Slavonice, Č.Krumlov, Pardubice, Litomy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etohrádek královny Anny (Belveder) arch. Paolo de la Stel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marek\Documents\Bluetooth Exchange Folder\cest-kralovska-z-015-letohradek-kralovny-anny.jpg"/>
          <p:cNvPicPr/>
          <p:nvPr/>
        </p:nvPicPr>
        <p:blipFill>
          <a:blip r:embed="rId1"/>
          <a:stretch/>
        </p:blipFill>
        <p:spPr>
          <a:xfrm>
            <a:off x="611280" y="1573200"/>
            <a:ext cx="7345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ANd9GcR60bYbAmSFdszX_kfX3k8AOra77Ik6D8hIlBQU1dZOnzhpM3s&amp;t=1&amp;usg=__mkKl74MDBN1jVnf41ovzs4QoMPQ="/>
          <p:cNvPicPr/>
          <p:nvPr/>
        </p:nvPicPr>
        <p:blipFill>
          <a:blip r:embed="rId1"/>
          <a:stretch/>
        </p:blipFill>
        <p:spPr>
          <a:xfrm>
            <a:off x="1332000" y="1008000"/>
            <a:ext cx="676908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516280"/>
            <a:ext cx="5486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chwarzenberský palác na Hradčanském náměstí – psaníčková sgrafi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marek\Documents\Bluetooth Exchange Folder\schw.jpg"/>
          <p:cNvPicPr/>
          <p:nvPr/>
        </p:nvPicPr>
        <p:blipFill>
          <a:blip r:embed="rId2"/>
          <a:stretch/>
        </p:blipFill>
        <p:spPr>
          <a:xfrm>
            <a:off x="1692360" y="549360"/>
            <a:ext cx="5688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0:59:59Z</dcterms:created>
  <dc:creator>Marek</dc:creator>
  <dc:description/>
  <dc:language>en-US</dc:language>
  <cp:lastModifiedBy>Jitka Kodrová</cp:lastModifiedBy>
  <dcterms:modified xsi:type="dcterms:W3CDTF">2015-02-09T13:19:54Z</dcterms:modified>
  <cp:revision>27</cp:revision>
  <dc:subject/>
  <dc:title>Snímek 1</dc:title>
</cp:coreProperties>
</file>