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275-4871-482B-909A-BE7F662F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D6A4-7015-4FB3-BA96-D81F39DD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66E-E5D7-4113-928B-E1D681CD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A5A1-62E0-4DFC-9E6F-A68B0909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062-876B-437F-B4AB-14423786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D996-04D0-47C2-88FD-6B73EACD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94E-4443-4958-96D1-3A2F6EE9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B0EE-6EAB-4FFB-8412-998B373D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43B1-1AA4-4F5A-BC01-9AB7F11C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241-B26A-4FD9-B5A6-D62ADEF5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C5D-C5A2-4ABF-9036-D1A7A4C5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700-2196-4310-973A-3F1A0B7E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3FDE-DB68-451D-9E4C-E2E893E5687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dejiny.archii.cz/starovek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réta, Myké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r: Jitka Kodr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lná velikost C00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plná velikost C00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plná velikost C00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plná velikost C0039.jpg"/>
          <p:cNvPicPr/>
          <p:nvPr/>
        </p:nvPicPr>
        <p:blipFill>
          <a:blip r:embed="rId1"/>
          <a:stretch/>
        </p:blipFill>
        <p:spPr>
          <a:xfrm>
            <a:off x="1042920" y="0"/>
            <a:ext cx="67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plná velikost C0042.JPG"/>
          <p:cNvPicPr/>
          <p:nvPr/>
        </p:nvPicPr>
        <p:blipFill>
          <a:blip r:embed="rId1"/>
          <a:stretch/>
        </p:blipFill>
        <p:spPr>
          <a:xfrm>
            <a:off x="241128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lná velikost C00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plná velikost C0053.jpg"/>
          <p:cNvPicPr/>
          <p:nvPr/>
        </p:nvPicPr>
        <p:blipFill>
          <a:blip r:embed="rId1"/>
          <a:stretch/>
        </p:blipFill>
        <p:spPr>
          <a:xfrm>
            <a:off x="1258920" y="0"/>
            <a:ext cx="70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plná velikost C0059.JPG"/>
          <p:cNvPicPr/>
          <p:nvPr/>
        </p:nvPicPr>
        <p:blipFill>
          <a:blip r:embed="rId1"/>
          <a:stretch/>
        </p:blipFill>
        <p:spPr>
          <a:xfrm>
            <a:off x="900000" y="0"/>
            <a:ext cx="76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plná velikost C006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plná velikost C00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plná velikost A568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plná velikost C00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plná velikost C0083.JPG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plná velikost C0084.JPG"/>
          <p:cNvPicPr/>
          <p:nvPr/>
        </p:nvPicPr>
        <p:blipFill>
          <a:blip r:embed="rId1"/>
          <a:stretch/>
        </p:blipFill>
        <p:spPr>
          <a:xfrm>
            <a:off x="1042920" y="0"/>
            <a:ext cx="756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lná velikost C0087.JPG"/>
          <p:cNvPicPr/>
          <p:nvPr/>
        </p:nvPicPr>
        <p:blipFill>
          <a:blip r:embed="rId1"/>
          <a:stretch/>
        </p:blipFill>
        <p:spPr>
          <a:xfrm>
            <a:off x="1763640" y="0"/>
            <a:ext cx="64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plná velikost C0089.JPG"/>
          <p:cNvPicPr/>
          <p:nvPr/>
        </p:nvPicPr>
        <p:blipFill>
          <a:blip r:embed="rId1"/>
          <a:stretch/>
        </p:blipFill>
        <p:spPr>
          <a:xfrm>
            <a:off x="1547640" y="0"/>
            <a:ext cx="60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plná velikost C0101.JPG"/>
          <p:cNvPicPr/>
          <p:nvPr/>
        </p:nvPicPr>
        <p:blipFill>
          <a:blip r:embed="rId1"/>
          <a:stretch/>
        </p:blipFill>
        <p:spPr>
          <a:xfrm>
            <a:off x="1116000" y="0"/>
            <a:ext cx="65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plná velikost C01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plná velikost C01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http://www.gjp1.cz/new/oppa2013/3_loga-upraveno.png"/>
          <p:cNvPicPr/>
          <p:nvPr/>
        </p:nvPicPr>
        <p:blipFill>
          <a:blip r:embed="rId1"/>
          <a:stretch/>
        </p:blipFill>
        <p:spPr>
          <a:xfrm>
            <a:off x="4211640" y="0"/>
            <a:ext cx="5149800" cy="4443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www.gjp1.cz/new/oppa2013/nadotek.png"/>
          <p:cNvPicPr/>
          <p:nvPr/>
        </p:nvPicPr>
        <p:blipFill>
          <a:blip r:embed="rId2"/>
          <a:stretch/>
        </p:blipFill>
        <p:spPr>
          <a:xfrm>
            <a:off x="-122400" y="33480"/>
            <a:ext cx="46324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užité zdroj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ejiny.archii.cz/starove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s://www.google.cz/search?q=kr%C3%A9ta&amp;biw=1280&amp;bih=699&amp;source=lnms&amp;tbm=isch&amp;sa=X&amp;ei=6rbYVOPaJpHmaMvzgeAJ&amp;sqi=2&amp;ved=0CAcQ_AUo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plná velikost C0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plná velikost C0015.JPG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lná velikost C0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plná velikost C0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lná velikost C00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plná velikost C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plná velikost C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8:04:08Z</dcterms:created>
  <dc:creator>Acer</dc:creator>
  <dc:description/>
  <dc:language>en-US</dc:language>
  <cp:lastModifiedBy>Jitka Kodrová</cp:lastModifiedBy>
  <dcterms:modified xsi:type="dcterms:W3CDTF">2015-02-09T13:32:48Z</dcterms:modified>
  <cp:revision>9</cp:revision>
  <dc:subject/>
  <dc:title>Kréta, Mykény</dc:title>
</cp:coreProperties>
</file>