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62A-0CEE-4B0D-9C67-1CFC2DEC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26D-D746-4586-8002-03C68CD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B0F-6FFC-42C2-95AA-6838232B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A13-8BBF-4510-96F3-AFDD33E0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679-BA91-4719-80CC-B62034AD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432-79B6-4231-B0D2-8971999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45E-769D-4CEF-99DC-72ACD56D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FC5-CA45-46C1-AB10-EE6B7651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93F-C5CA-4EB6-AAC9-70B43FF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D34-67EB-48E3-BB82-83D74D1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6A0-D13B-4178-AE60-C11445D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D8E-6B8F-4A16-A419-7A38EA8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7B87-561C-4931-8B38-31E495CAA7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jiny.archii.cz/starovek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rusk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: Jitka Kod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www.gjp1.cz/new/oppa2013/nadotek.png"/>
          <p:cNvPicPr/>
          <p:nvPr/>
        </p:nvPicPr>
        <p:blipFill>
          <a:blip r:embed="rId1"/>
          <a:stretch/>
        </p:blipFill>
        <p:spPr>
          <a:xfrm>
            <a:off x="250920" y="333360"/>
            <a:ext cx="4633920" cy="384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gjp1.cz/new/oppa2013/3_loga-upraveno.png"/>
          <p:cNvPicPr/>
          <p:nvPr/>
        </p:nvPicPr>
        <p:blipFill>
          <a:blip r:embed="rId2"/>
          <a:stretch/>
        </p:blipFill>
        <p:spPr>
          <a:xfrm>
            <a:off x="4678200" y="380880"/>
            <a:ext cx="442296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jiny.archii.cz/starove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s://www.google.cz/search?q=etruskov%C3%A9&amp;biw=1280&amp;bih=699&amp;source=lnms&amp;tbm=isch&amp;sa=X&amp;ei=vrbYVJjPGM7raLOegLAP&amp;sqi=2&amp;ved=0CAYQ_AUo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plná velikost B0954.JPG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lná velikost B1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lná velikost B1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lná velikost B11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lná velikost B1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lná velikost B1181.JPG"/>
          <p:cNvPicPr/>
          <p:nvPr/>
        </p:nvPicPr>
        <p:blipFill>
          <a:blip r:embed="rId1"/>
          <a:stretch/>
        </p:blipFill>
        <p:spPr>
          <a:xfrm>
            <a:off x="468360" y="0"/>
            <a:ext cx="77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lná velikost B11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lná velikost B1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17:51Z</dcterms:created>
  <dc:creator>Acer</dc:creator>
  <dc:description/>
  <dc:language>en-US</dc:language>
  <cp:lastModifiedBy>Jitka Kodrová</cp:lastModifiedBy>
  <dcterms:modified xsi:type="dcterms:W3CDTF">2015-02-09T13:32:01Z</dcterms:modified>
  <cp:revision>8</cp:revision>
  <dc:subject/>
  <dc:title>Etruskové</dc:title>
</cp:coreProperties>
</file>