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CCE-EA72-4D91-AFBB-5324348D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F81-476A-4257-8BDF-3118DBB4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BF1-1313-4368-96B4-6B93BF47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21E-8B8A-4014-8E8B-5BB9C941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5C4-85B5-4C82-B43E-E89D5A8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536-8375-429E-A555-B829F1F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512-C345-4358-BF7D-D465A46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571-7B2F-4AC2-810F-10E1949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1D5-4644-4890-9BAF-645B3CD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6E5-E2E9-4E20-BD07-6FF6FAE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27D-F0E0-41D8-BE34-7CDB15A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041-8F28-4729-881A-46EC919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A00-73AB-4477-94D7-193E80240F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ISTORIE GEOGRAFIE</a:t>
            </a:r>
            <a:br>
              <a:rPr sz="44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utor: Tereza Kamenick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nadotek"/>
          <p:cNvPicPr/>
          <p:nvPr/>
        </p:nvPicPr>
        <p:blipFill>
          <a:blip r:embed="rId1"/>
          <a:stretch/>
        </p:blipFill>
        <p:spPr>
          <a:xfrm>
            <a:off x="2050920" y="234936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3_loga-upraveno"/>
          <p:cNvPicPr/>
          <p:nvPr/>
        </p:nvPicPr>
        <p:blipFill>
          <a:blip r:embed="rId2"/>
          <a:stretch/>
        </p:blipFill>
        <p:spPr>
          <a:xfrm>
            <a:off x="4427640" y="2349360"/>
            <a:ext cx="2381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yštof K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5/16st., mořeplavec z Janova, plul ale pod Španělskou vlaj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492 doplul k Bahamským ostrovům a na pevninu, obyvatele nazval Indios (španělský výraz pro In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umbus nebyl prvním Evropanem, který navštívil Ameriku – o pět století dříve jejích břehů dosáhla expedice vede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eifem Erikssone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ský viking), která založila kolonii na dnešním Newfoundlan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ernão de Magalhã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19-22 – obeplutí země portugalským mořeplavcem Magalhãesem. Podal tak důkaz kulatosti Země a jednoty světového oceánu. Magalhãesovu výpravu s úspěchem zopakoval až r.1580 Angličan Francis Dr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024px-Magellan-Map-En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Arial"/>
              </a:rPr>
              <a:t>Přiřaďte mořeplavce k objevným cestá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yštof Kolu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sco de 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ernão Magalhã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ancis Dr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llem B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el Tas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284720" y="1557360"/>
            <a:ext cx="4680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eplutí Jižní Ameriky, plavba přes Pacifik na Mol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é A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, Tasmánie, Austrá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ní Afrika a In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cifické pobřeží Jižní a Severní Ameriky a cesta kolem svě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icberky a Nová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las, globus a kniht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448 Johann Guttenberg, vyučený zlat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erhart Merca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ako první dokázal přenášet obraz kulového tělese Země na papír a přispěl tak k rozvoji mapových zobrazení. Využil slovo „atlas“ jako název pro kolekci map a přesvědčil Abrahama Ortelia k sestavení prvního moderního atlasu – Theatrum Orbis Terrarum. Kromě toho začal po částech vydávat svůj vlastní atlas. Vymyslel novou metodu výroby glóbů, která umožnila jejich pozdější hromadnou produ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stronomie, matematická geografie a kartografie v novově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ikuláš Koperní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5/16 st) – tvůrce heliocentrické teorie „O pohybu zemských těles“, církev ji však odmítala přijm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lileo Galile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6/17 st.) – označován za otce vědy, spojen s vědeckou revolucí, používal experimenty, které následně analyzoval, konflikt s církví, podporoval Koperníkovy myš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iordano Brun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6 st.) - teze o tom, že Země ani Slunce není středem Vesmíru a že Vesmír je nekonečný, prohlášen za kacíře, upálen v Ří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ohannes Kepl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6/17st.) – německý matematik, astronom a astrol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eplerovy záko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nety obíhají kolem Slunce po eliptických                                      drahách, v jejichž jednom společném ohnisku                       je Slu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y ploch opsaných průvodičem planety (spojnice planety a Slunce) za stejný čas jsou stejně velké. Neboli: Přímka spojující Slunce s planetou opíše za stejný čas také stejně velkou ploch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druhých mocnin oběžných dob dvou planet je stejný jako poměr třetích mocnin jejich velkých poloos (středních vzdáleností těchto planet od Slun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Johannes Kepler"/>
          <p:cNvPicPr/>
          <p:nvPr/>
        </p:nvPicPr>
        <p:blipFill>
          <a:blip r:embed="rId1"/>
          <a:stretch/>
        </p:blipFill>
        <p:spPr>
          <a:xfrm>
            <a:off x="7380360" y="333360"/>
            <a:ext cx="1689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ovověku vznikají první geografické práce, hlavními geografy byly představitelé klasické německé ško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xander von Humbol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8/19st); zabýval se především přírodovědou, ale také obecnou fyzickou geografií, klimatogeografií a fytogeograf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rl (von) Ritt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8/19st) vedoucí první katedry geografie na světě, která byla založena v Berlíně; rozpracoval teorii geografického determin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tterovým žákem byl také syn Františka Palackéh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an Křtitel Kašpar Palack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rvní profesor geografie na české části Univerzity Karlov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19. století se krom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geografického determinism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bjevuje další geografická teorie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eografický indeterminismu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Jejím hlavním představitelem je francouzský geograf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aul Vidal de La Blac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20. století vzniklo velké množství různých negeografických věd - urbanismus, ekologie, geografické informační systémy, geobotanika, sociologie města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geografie v 2. polovině 20. století je spojený s pronikáním výpočetní techniky a matematických metod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ntitativní revolu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geografii byly postaveny nové úkoly a problémy: Prostorové plánování, Regionální rozvoj, Využívání přírodních zdrojů, Ochrana životního prostředí, Problémy hladu, Geopolitické probl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m znakem současné geografie je jej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disciplina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jak vnitřní (spolupráce mezi jednotlivými geografickými disciplínami), tak vnější (kooperace s jinými vědeckými obor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roli v geografii 20. století hrála především anglo-americká geografická škola, která se orientovala hlavně na socioekonomickou (humánní) geograf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VĚ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mapa na našem území byla vyryta lovci mamutů do mamutího 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yla nalezena pod Pavlovskými v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ří se odhaduje na cca. 25 000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066724--sadrovy-odlitek-mamutiho-klu-nalezeneho-v-roce-1962-v-pavlove-na-jizni-morave-na-kterem-je-zachycena-rytina-lovecke-mapy-s-krajinou-zakreslenou-abstraktnimi-motivy-stari-teto-mapy-se-odhaduje-na-25000-let--1-610x0p0"/>
          <p:cNvPicPr/>
          <p:nvPr/>
        </p:nvPicPr>
        <p:blipFill>
          <a:blip r:embed="rId1"/>
          <a:srcRect l="10951" t="0" r="9204" b="0"/>
          <a:stretch/>
        </p:blipFill>
        <p:spPr>
          <a:xfrm>
            <a:off x="5904000" y="762120"/>
            <a:ext cx="3240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 Geografie, Pavel Tai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kipedi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ografie 1, J. Demek, SPN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TICKÉ ŘEC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.st.př.n.l. - vznik geografie jako vědy, nikoli však samosta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ximandro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rvní zeměpisná mapa, první nebeský glóbus, slunečn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hales z Milé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važoval Zemi za vál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érodoto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„otec historie“, tvrzení že k historii se musí přistupovat geograficky a ke geografii histo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ppokraté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kladatel moderní medicíny, ale také geograf, členil podnebí na 3 pásy (chladný severní, nejpříznivější mírný a suchý jižní pá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geografická vědecká teorie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eografický determi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3.století před n.l. mezi učenci více méně ustálil názor, že Země je kulat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ristoteles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jen s odklonem geografie od historie, zabýval se oběhem vody, vzdušným prouděním, bi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05ba864_b_0_eratosthenes_s"/>
          <p:cNvPicPr/>
          <p:nvPr/>
        </p:nvPicPr>
        <p:blipFill>
          <a:blip r:embed="rId1"/>
          <a:stretch/>
        </p:blipFill>
        <p:spPr>
          <a:xfrm>
            <a:off x="7007400" y="2924280"/>
            <a:ext cx="2136600" cy="2520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68360" y="3213000"/>
            <a:ext cx="655164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ratosthenés z Kyré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st.př.n.l. – „otec geografie“, astronom a matematik, první používal pojmy geografie, zeměpisná šířka a délka, dílo Geografika hypomnémata (Zeměpisné záznamy), věřil v kulatost Země a vypočítal poledníkový obvod Země na 40 00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tolemaio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řecký geograf, astronom a astrolog,sepsal vrcholná díla antické geografie – Velká soustava, Čtyři knihy o astrologii, Návod ke geograf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iným zachovalým antickým geografickým dílem je sedmnácti svazková publikac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Geografi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ou v 1. st.př.n.l. napsal římský filosof Strab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ŘEDOVĚ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adek antických znal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řeckou vzdělanost navazovali převážně arabští vzděla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starší písemná zpráva o Praze (965) pochází z pera arabského cestovate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Ibrahima Ibn Jako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gyptský mnich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smas Indikopleusté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il dílo Křesťanský místopis, který popisuje tehdy známý křesťanský svět a odstraňuje „geografické pohanské bludy“, např. poznatek o kulatosti Zem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namným středověkým geografem byl benátský cestovatel a kupec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arco Pol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254-1324), autor cestopisu Mil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Marco Polo"/>
          <p:cNvPicPr/>
          <p:nvPr/>
        </p:nvPicPr>
        <p:blipFill>
          <a:blip r:embed="rId1"/>
          <a:stretch/>
        </p:blipFill>
        <p:spPr>
          <a:xfrm>
            <a:off x="6180120" y="2852640"/>
            <a:ext cx="2963880" cy="400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640px-Travels_of_Marco_Polo"/>
          <p:cNvPicPr/>
          <p:nvPr/>
        </p:nvPicPr>
        <p:blipFill>
          <a:blip r:embed="rId2"/>
          <a:stretch/>
        </p:blipFill>
        <p:spPr>
          <a:xfrm>
            <a:off x="0" y="1844640"/>
            <a:ext cx="5991120" cy="5013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6335640" y="1773360"/>
            <a:ext cx="280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co Polo                     (1254-13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187280" y="2276640"/>
            <a:ext cx="324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sta do Čí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é množství geografických informací můžeme získat i z jiných cestopisů, např. z popisů cest Viking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24px-Territories_and_Voyages_of_the_Vikings_blank"/>
          <p:cNvPicPr/>
          <p:nvPr/>
        </p:nvPicPr>
        <p:blipFill>
          <a:blip r:embed="rId1"/>
          <a:stretch/>
        </p:blipFill>
        <p:spPr>
          <a:xfrm>
            <a:off x="826920" y="1706400"/>
            <a:ext cx="74520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OVĚ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16.století dochází k rozvoji ge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vné c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byly příčiny zámořských plav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www.pknihy.cz"/>
          <p:cNvPicPr/>
          <p:nvPr/>
        </p:nvPicPr>
        <p:blipFill>
          <a:blip r:embed="rId1"/>
          <a:stretch/>
        </p:blipFill>
        <p:spPr>
          <a:xfrm>
            <a:off x="0" y="3573360"/>
            <a:ext cx="1542960" cy="2229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6084720" y="335772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Arial"/>
              </a:rPr>
              <a:t>Ag  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Zlatý náhrdelník"/>
          <p:cNvPicPr/>
          <p:nvPr/>
        </p:nvPicPr>
        <p:blipFill>
          <a:blip r:embed="rId2"/>
          <a:srcRect l="15756" t="0" r="15733" b="0"/>
          <a:stretch/>
        </p:blipFill>
        <p:spPr>
          <a:xfrm>
            <a:off x="2195640" y="4913280"/>
            <a:ext cx="177624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Belem - 1"/>
          <p:cNvPicPr/>
          <p:nvPr/>
        </p:nvPicPr>
        <p:blipFill>
          <a:blip r:embed="rId3"/>
          <a:srcRect l="6978" t="18613" r="6925" b="23236"/>
          <a:stretch/>
        </p:blipFill>
        <p:spPr>
          <a:xfrm>
            <a:off x="6478560" y="505764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Marco Polo"/>
          <p:cNvPicPr/>
          <p:nvPr/>
        </p:nvPicPr>
        <p:blipFill>
          <a:blip r:embed="rId4"/>
          <a:stretch/>
        </p:blipFill>
        <p:spPr>
          <a:xfrm>
            <a:off x="4356000" y="3429000"/>
            <a:ext cx="14176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7:45:09Z</dcterms:created>
  <dc:creator>Tereza Kamenická</dc:creator>
  <dc:description/>
  <dc:language>en-US</dc:language>
  <cp:lastModifiedBy>Tereza Kamenická</cp:lastModifiedBy>
  <dcterms:modified xsi:type="dcterms:W3CDTF">2015-01-22T13:36:45Z</dcterms:modified>
  <cp:revision>72</cp:revision>
  <dc:subject/>
  <dc:title>Snímek 1</dc:title>
</cp:coreProperties>
</file>