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D0B-22D5-4EAE-9C62-B10BF8D1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9CA-4252-4F74-8A8D-FEB30A2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6E9-349F-4C3C-8344-A0036BDD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69F-FE04-405F-8084-D64DFE5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BE8-01ED-47CF-BF62-89DC759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A2C-2BB2-458C-ABBF-5E8624E0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54E-CEF2-4A7D-9C0E-19F61E7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58B-EFBE-444C-993C-3F9ACD5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30E-F924-4C93-AFDB-7E5CED54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7F3-C89F-4A18-BB4C-3405DC6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205-DD82-420D-9D44-0A38E87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FF5-FB93-48FB-94FB-BF1B444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790-BF8D-4929-9D2A-C612DC65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t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2381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časné meto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rozvojem letecké a kosmické techniky do mapování promluvily významnou měro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letadla a druž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ruž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bíhají kolem Země po kruhových drahách, rozlišujeme dráh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ubpolární)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vníkov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šikm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učebnice str.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epších výkonů dosah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merické vojenské a špionážní druž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é rozlišují na Zemi předměty o rozměrech několika decimetr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lobal Positioning System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mapových měření vzniká m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ský povrch můžeme zobrazovat buďto v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vin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b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ojrozmě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dokonalejším znázorněním zemského povrchu 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ób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šechny tvary jsou podobné tvarům na zemi, úhly zůstávají stejné a všechny vzdálenosti jsou zmenšeny v konstantním poměru 1:m. Tento poměr se nazývá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élkové měřítko glób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o mnoho účelů se však glóbus nehodí a proto používáme méně přesné zobrazení zemského povrchu, kterým je m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zmenšený zjednodušený rovinný obraz zemského povrchu. Mapa vyjadřuje smluvenými znaky rozmístění a vlastnosti skutečných geografických je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ítko map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ěřítko map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to poměr zmenšení (m) skutečnosti do rozměrů mapy.  1: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mapě na rozdíl od glóbu nemůže platit jednotné měřít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řítko uváděné na mapě je měřítkem glóbu ze kterého byla mapa odvoz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řítko je tedy poměr vzdáleností na mapě a ve skutečnosti, platí však pouze v některých částech m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číselné, slovní, grafické měřít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tografická zobrazení podle zkresle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lochojev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lochojevnost-ekvivalence) zobrazení zachovávají plochy, ale zkreslují úhly, dé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élkojevno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kvidistance) - zachovány délky poledníků nebo rovnoběž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hlojev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úhlojevnost - konformita) zobrazení zachovávají úhly, ale zkreslují plochy, délky. Důležitá vlastnost navigačních map (např. námořní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rovnáva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ompenzační)zobrazení se snaží o kompromis. Délky jsou zkresleny ve všech zobrazeních, nejčastě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tografická zobrazení podle referenční ploch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dnoduchá kartografická zobraz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ahrazují zemský povrch nejprve glóbem, a ten převedou do roviny přímo (zobrazením na plochu), nebo prostřednictvím válce a kuž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zimutální zobraz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užívají jako zobrazovací plochu rovinu, která se dotýká v jednom bodě glóbu. Jsou vhodná pro území tvaru kruhu – polární obla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álcová zobraz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zobrazují povrch glóbu nejdříve na plášť válce, který potom rozvine do roviny. Hodí se pro protáhlá území kolem rovníku, nebo protáhlá území kolem poled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uželová zobraz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zobrazují globus na plášť kužele, který potom rozvinou do roviny. Hodí se pro protáhlá území kolem rovnoběžek ve středních zeměpisných šíř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cná kartografická zobraz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dají se vysvětlit názorně pomocí jedné zobrazovací plochy. Zejména pro mapy světa na jednom listě m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dle polohy dotykového bodu rozlišujeme zobrazení v polo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ál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otykovým bodem je zeměpisný p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říčn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otykovým bodem je místo na rov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šikm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otykový bod je kdekoli j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35040"/>
            <a:ext cx="91440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tometr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jišťování dél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vítkem, křivkomě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ichová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ěření pl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idelné plochy (geometrického tvaru) zjišťuje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po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nepravidelných ploch měříme plochu na mapě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imet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bo méně přesně pomocí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obné čtvercové sít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ěření úhlů - měření azimu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hly měříme na mapě nejčastěji horizontálně - jak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bo vypočítává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škový úh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e vzdálenosti vrstevnic, jsou-li na mapě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mut 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áporně orientovaný horizontální úhel (po směru hodinových ručiček) mezi severem a konkrétním smě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zimut východu je tak 90°, jihu 180° a západu 27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012" t="27349" r="50335" b="10531"/>
          <a:stretch/>
        </p:blipFill>
        <p:spPr>
          <a:xfrm>
            <a:off x="1828800" y="2509920"/>
            <a:ext cx="56008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hy ma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unk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terému odborníkovi či člověku taková mapa slouží, ve kterém resortu je využita.vojenské, hospodářské, školní, turistické, sporto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měřít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y malých měřítek:  nad 1:10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y středních měřítek:  1:200 000 - 1:1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y velkých měřítek:  do 1:2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obsahu se rozeznávaj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opografické a tematické ma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grafické ma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ednotlivé prvky jako reliéf, vodstvo, rostlinný a půdní kryt, sídla, komunikace atd. jsou vzájemně vyváženy. Dělí se na podrobné mapy velkého měřítka do 1:5000 – katastrální mapy, topografické mapy nad 1:10 000, obecně geografické mapy měřítka nad 1:5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matické ma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pografický obsah je redukován, hlavní náplň tvoří tematický obsa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tronomick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př. mapy hvězdné oblohy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ologic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avba a složení zemské kůry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limatické map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uka o zobrazování zemského povrchu do map, o konstrukci, tisku a užití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názornění objektů na mapách je zapotřebí znát jejich polohu na zemském povrch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u určujeme pomoc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měpisných souřadni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zeměpisné šířky a dé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éně přesně např. podle o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ientační síťě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sloupce označeny čísly, řádky písm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ah map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pové znač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e využívají pro zákres objektů na mapě, jejich význam musí být vždy uveden v legend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bodov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 města, průmy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arov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 protáhlé objekty, komunikace, vod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loš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barvou nebo rastrem odlišená úze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škop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razuje reliéf, jedná se o výškové body doplněné číselnými údaji o výšce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ótami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udávajícími nadmořské vý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rstevn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pojují body o stejné nadmořské výšce, nemohou se křížit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rstevnicový interv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uvádí rozestup vrste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škopis může být vyjádřen i barevnou stupnicí, nebo rast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iéf nejlépe vystihuj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eliéfní ma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neb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upňové mo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lohop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rnuje celý topografický obsah bez relié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av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odní toky modře, rostlinný a půdní kryt barvou nebo rastrem, sídla půdorysně nebo kroužky, komunikace a hranice čárovými znač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názornění tematického obsah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okalizované diagramy, kartodiagramy, kar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a topografická (turistická)    mapa tematická (průmysl a N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49402" t="4277" r="6240" b="61506"/>
          <a:stretch/>
        </p:blipFill>
        <p:spPr>
          <a:xfrm>
            <a:off x="4114800" y="1371600"/>
            <a:ext cx="502920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7059" t="4991" r="49593" b="51524"/>
          <a:stretch/>
        </p:blipFill>
        <p:spPr>
          <a:xfrm>
            <a:off x="0" y="1371600"/>
            <a:ext cx="3868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is map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ádí názvy objektů na ma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le druhu obje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horonym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jména vodorovných částí souše (kontinentů)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ístní jmé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ídel, ulic)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místní jmé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řírodní objekty, řeky, h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le původu jmé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mácí jmé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 domovském státě uživatele mapy, Vltava, Cheb)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izí jmé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jména objektů v cizině, thein, Roma)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žitá jmé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exonyma, domácí podoby cizích jmen, Drážďany, Londý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is názvů z jiných abeced do češtiny: Užívá se napříkla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litera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řepisu jiné abecedy, např. azbuky), neb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krip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řepisu znakového písma, např. čínských znaků, nelze jednoduše převést zpět, většinou odpovídá výslovnosti v daném jazy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eměpisná délka (lamb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úhel mezi základním a místním polední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m poledníkem je Greenwichský (lambda=0°), místní poledník prochází určovaným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dník spojuje všechny body se stejnou zeměpisnou délkou a nastává na něm všude současně pole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Zeměpisná šířka (F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úhel mezi rovinou rovníku (Fí=0°) a spojnicí středu země s určovaným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běžka je spojnice míst stejné zeměpisné šíř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rovnoběžkou j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ovní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32000"/>
            <a:ext cx="9144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 pomocí atlasu určete zeměpisné souřadnice následujích mě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ew Y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rasi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hi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ucklan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ek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oky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Qui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ydn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msterd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měpisné souřadn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ew York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42 s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73 z.d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rasilia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6 j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48 z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hira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30 s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32 v.d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uckland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37 j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75 v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eking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40 s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17 v.d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okyo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37 s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39 v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Quito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 j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78 z.d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ydney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34 j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52 v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msterdam: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53 s.š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5 v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nik mapy – mapová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ůvodní mapov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dv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 již existujících map (mapy původní a odvozen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techniky znamenal významné změny při vzniku map. Dnes rozhodujícím způsobem ovlivňuje družicové snímkování a dálkový průzkum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cká metodi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tronomická měření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rčení přesné zeměpisné (délka a šířka) polohy základních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detic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ěř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oplnění základních bodů o trojúhelníkovou síť pokrývající mapované území -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gonometrická, triangulační síť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Výchozím triangulačním bodem j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rch Pec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enešovská pahorkatina, není přístupný). Trigonometrická síť byla doplněn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ivelačními měřením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což je síť přesně změřených nadmořských výšek, ta je základem pro podrobný výškopis. Nulová hladina pro ČR je hladina Baltu (Kronštadt ve Finském zálivu), základní nivelačn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od je Liš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ý má 564,7597 m n.m. (za 1. republiky byla nulová hladina Jadranu v Ters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pografická měř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podrobná situační a nivelační měření v terénu, vnáší se do mapových lis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plňková 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eza Kamenická</dc:creator>
  <dc:description/>
  <dc:language>en-US</dc:language>
  <cp:lastModifiedBy>O.Kamenický</cp:lastModifiedBy>
  <dcterms:modified xsi:type="dcterms:W3CDTF">2014-11-26T21:08:57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