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3.jpeg" ContentType="image/jpeg"/>
  <Override PartName="/ppt/media/image21.png" ContentType="image/png"/>
  <Override PartName="/ppt/media/image4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8EAB-5FE6-4644-B887-F1A93A25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12A7-5A2C-47C1-9DFF-8A3F5571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09B6-9243-4832-BD6C-783BF7FC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9952-60BB-45B8-86DA-29E66C9A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4E0F-090E-42E0-AC38-080B23E2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F07F-BC72-4450-A69C-5D2EB4B9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A6FD-AF9F-489E-A74F-BE0BAD32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3C22-D12D-48BA-A59A-FE290F07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016D-BA66-432C-912C-0309F3D8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8394-B6A8-435E-9EF7-B09698DF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3719-FBF3-4161-BF7E-E68E398B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4451-FAA1-4555-893B-37A4D871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721C-746F-49D0-B9E9-715119C58EE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Vědecko-technická revolu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druhá průmyslová revoluce)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(1870-191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avazuje na výsledky     průmyslové revoluc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 přelomu 18. a 19. stol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ěda pomáhá tech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ledkem je využití nových materiálů, způsobů výroby a zdrojů energie ve výrob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"/>
          <p:cNvSpPr/>
          <p:nvPr/>
        </p:nvSpPr>
        <p:spPr>
          <a:xfrm>
            <a:off x="457200" y="14176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: Jitka Kodr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Mechanizace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vaha USA, Německ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romadná velkovýroba strojů, obráběcí stroje, masová výroba zbraní (vyměnitelnost součást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5"/>
          <p:cNvSpPr/>
          <p:nvPr/>
        </p:nvSpPr>
        <p:spPr>
          <a:xfrm>
            <a:off x="0" y="62064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utomobil, motocyk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886 -první v praxi použitelný výbušný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benzinový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palovací motor- Carl Daimler, Gottlieb B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první automobil (1885) i první motocykl (189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924360" y="1773360"/>
            <a:ext cx="521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Dieselový mo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90. léta 19. stol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alovací motor na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naft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stlačený vzduch - vyšší výkon a levnější palivo Rudolf Die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užívá se do nákladních automobilů a lo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otocyklová dvoukolka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„La Petrolette“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893 - sériová výroba motocyklů Hildebrant a Wolfmu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vní český motockl vyrobili Laurin a Klement v roce 18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0" y="2852640"/>
            <a:ext cx="59752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Revoluce ve výrobě automobilů USA - pásová výro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908- USA - Henry Ford- revoluce v automobilech- pásová sériová výroba- levnější-Ford model T- Lízin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 světě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vznik koncernů: Renault, Fiat, Ford, General Mo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067280" y="2924280"/>
            <a:ext cx="50767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Lét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900-1.úspěšný let řiditelné vzducholodě nad Bodamským jezerem - hrabě Ferdinand Zeppe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903- 1. prokázaný let- několik vteřin ve vzduchu se udržel letoun bratří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Orwilla a Wilbura Wrigh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908- překonali vzdálenost 125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909- Louis Blériot- přeletěl kanál La Man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Če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 nás zakladatelem aviatiky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Jan Kašpa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1911 let Pardubice-Chuchle na letadle typu Bleri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nam: doprava, voj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zducholo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900-1.úspěšný let řiditelné vzducholodě nad Bodamským jezerem - hrabě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Ferdinand Zeppe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2576520"/>
            <a:ext cx="500364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1903 - letoun bratří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rwilla a Wilbura Wright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78487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osvětlení mě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avel Jabločkov-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oblouková lamp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okonalil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Fr. Křiž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žárovk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T.A.Ediso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uhlíkové nebo kovové vlákno ve vzduchotěsné ampu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eč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: General Elektric- T.A.Edison, Westinghouse- Georg Westing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ěmecko: Siemens, AE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olandsko: Phi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Nové zdroje ener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konci 19. století parní stroj nahrazen lehčím spalovacím motorem: plynovým – benzínovým – naftovým – elektromot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pracování ropy: petrolej, benzín, nafta, mazu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53- petrolej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petrolejka"/>
          <p:cNvPicPr/>
          <p:nvPr/>
        </p:nvPicPr>
        <p:blipFill>
          <a:blip r:embed="rId1"/>
          <a:stretch/>
        </p:blipFill>
        <p:spPr>
          <a:xfrm>
            <a:off x="4788000" y="3716280"/>
            <a:ext cx="3600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p1861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hist_zaves1"/>
          <p:cNvPicPr/>
          <p:nvPr/>
        </p:nvPicPr>
        <p:blipFill>
          <a:blip r:embed="rId2"/>
          <a:stretch/>
        </p:blipFill>
        <p:spPr>
          <a:xfrm>
            <a:off x="4437000" y="3840120"/>
            <a:ext cx="4707000" cy="301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hist_celek1"/>
          <p:cNvPicPr/>
          <p:nvPr/>
        </p:nvPicPr>
        <p:blipFill>
          <a:blip r:embed="rId3"/>
          <a:stretch/>
        </p:blipFill>
        <p:spPr>
          <a:xfrm>
            <a:off x="4427640" y="0"/>
            <a:ext cx="4716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Další obje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medicí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vznik mikrobiologie- Louis Pasteur- očkování proti vztekli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1882- Robert Koch- objevil původce tuberkuló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1876- Alexander Graham Bell telefo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1628640"/>
            <a:ext cx="65167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1878 - T. A. Edison - fonograf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hrává a reprodukuje lidský h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564000" y="1962000"/>
            <a:ext cx="5580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legraf - Marc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896- Guglielmo Marconi- </a:t>
            </a: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bezdrátový telegraf-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přenos Morseovy abecedy elektromagnetickými vlnami přes Temž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1901-první přenos přes Atlanti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ANd9GcR3OR4K76nfybBRTba5P96MMp4fTMCHBNF10b0NgWNzeIIzU5xxsLPMNWqJnQ"/>
          <p:cNvPicPr/>
          <p:nvPr/>
        </p:nvPicPr>
        <p:blipFill>
          <a:blip r:embed="rId1"/>
          <a:stretch/>
        </p:blipFill>
        <p:spPr>
          <a:xfrm>
            <a:off x="0" y="2133720"/>
            <a:ext cx="4643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1895 - bratři Lumiérové kinematogra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Lumiere_600x338"/>
          <p:cNvPicPr/>
          <p:nvPr/>
        </p:nvPicPr>
        <p:blipFill>
          <a:blip r:embed="rId1"/>
          <a:stretch/>
        </p:blipFill>
        <p:spPr>
          <a:xfrm>
            <a:off x="0" y="2349360"/>
            <a:ext cx="6659640" cy="4227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kinematograf1"/>
          <p:cNvPicPr/>
          <p:nvPr/>
        </p:nvPicPr>
        <p:blipFill>
          <a:blip r:embed="rId2"/>
          <a:stretch/>
        </p:blipFill>
        <p:spPr>
          <a:xfrm>
            <a:off x="6804000" y="3284640"/>
            <a:ext cx="2340000" cy="3573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kinematograf_1_2"/>
          <p:cNvPicPr/>
          <p:nvPr/>
        </p:nvPicPr>
        <p:blipFill>
          <a:blip r:embed="rId3"/>
          <a:stretch/>
        </p:blipFill>
        <p:spPr>
          <a:xfrm>
            <a:off x="6372360" y="836640"/>
            <a:ext cx="27716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ent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896- Wilhelm Roentgen- paprsky X prosvítil ru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Roentgen_02"/>
          <p:cNvPicPr/>
          <p:nvPr/>
        </p:nvPicPr>
        <p:blipFill>
          <a:blip r:embed="rId1"/>
          <a:stretch/>
        </p:blipFill>
        <p:spPr>
          <a:xfrm>
            <a:off x="611280" y="1628640"/>
            <a:ext cx="3456000" cy="5040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Wilhelm_Roentgen"/>
          <p:cNvPicPr/>
          <p:nvPr/>
        </p:nvPicPr>
        <p:blipFill>
          <a:blip r:embed="rId2"/>
          <a:stretch/>
        </p:blipFill>
        <p:spPr>
          <a:xfrm>
            <a:off x="5292720" y="2990880"/>
            <a:ext cx="31240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ové představy o složení hmo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rie Curie-Sklodows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x Plan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lbert Einste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905 - teorie rel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sací stroj Remington  18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0552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icích strojů - Singer  18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120080923063524"/>
          <p:cNvPicPr/>
          <p:nvPr/>
        </p:nvPicPr>
        <p:blipFill>
          <a:blip r:embed="rId1"/>
          <a:stretch/>
        </p:blipFill>
        <p:spPr>
          <a:xfrm>
            <a:off x="0" y="2781360"/>
            <a:ext cx="4643280" cy="4076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120090630054745"/>
          <p:cNvPicPr/>
          <p:nvPr/>
        </p:nvPicPr>
        <p:blipFill>
          <a:blip r:embed="rId2"/>
          <a:stretch/>
        </p:blipFill>
        <p:spPr>
          <a:xfrm>
            <a:off x="4716360" y="2581200"/>
            <a:ext cx="44276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http://www.gjp1.cz/new/oppa2013/nadotek.png"/>
          <p:cNvPicPr/>
          <p:nvPr/>
        </p:nvPicPr>
        <p:blipFill>
          <a:blip r:embed="rId1"/>
          <a:stretch/>
        </p:blipFill>
        <p:spPr>
          <a:xfrm>
            <a:off x="169920" y="434880"/>
            <a:ext cx="4632120" cy="3841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http://www.gjp1.cz/new/oppa2013/3_loga-upraveno.png"/>
          <p:cNvPicPr/>
          <p:nvPr/>
        </p:nvPicPr>
        <p:blipFill>
          <a:blip r:embed="rId2"/>
          <a:stretch/>
        </p:blipFill>
        <p:spPr>
          <a:xfrm>
            <a:off x="4572000" y="458640"/>
            <a:ext cx="442260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Těžba r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70- John Rockefeler- společnost Standart Oil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7- vznik Royal Dutch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918- Nobel- těžařská společ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oj o naleziště r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užité zdroj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jepis 3- pro gymnázia a střední školy, Hlavačka, Milan, SP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ttps://www.google.cz/search?q=v%C4%9Bdeckotechnick%C3%A1+revoluce&amp;biw=1280&amp;bih=699&amp;source=lnms&amp;tbm=isch&amp;sa=X&amp;ei=4LjYVIbfK4flaJGfgOAN&amp;ved=0CAYQ_AUoAQ#tbm=isch&amp;q=v%C4%9Bdecko-technick%C3%A1+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1884 - parní turbína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Charles Par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rní turbína spolu se spalovacím motorem ve 20. století nahradila parní stro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dnes se používá v tepelných a jaderných elektrárnách, ale i k pohonu lodí, účinnost 40 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proti parnímu stroji 1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odní turbí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95 – první hydroelektrárna na Niaga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hrady- 2 typ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/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Kaplanov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rozdíl mezi hladinami vod-Orlík, Gabčíko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/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Francisov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Štvanice- přetlaková turb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Elektrická ener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znám po staletí, ale praktické využití možné až díky </a:t>
            </a:r>
            <a:r>
              <a:rPr b="1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elektromotor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který  vznikl spojením objevů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Zenoby Gramm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vynález dynama),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Nikoly Tesl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alternátor na střídavý proud) a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Goulard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transformá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už potřeba k pracovnímu stroji mít stroj, který ho pohání (parní), osvětlení- změna práce v továrn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lektromo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81 – představen v Paříži na elektrotechnické výsta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íván k pohonu tramvají a strojů v továrn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80 první tavba v elektrické peci – Werner Sie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83- 1. elektrická lokomotiva-tramv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90- elektrifikace londýnského m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1890- přenos elektřiny na dál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Nové materiály a způsoby vý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zkujňování ocel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dříve litina, která je tvrdá-křehká), nyní  S-M pece dokáží vyrobit ocel pevn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omasování - vessemeriho konvektor (zařízení na vytěsnění fosforu z oce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ledkem </a:t>
            </a: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znik oceláren, drátoven, válco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alurgie neželezných kovů: </a:t>
            </a: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měď, cín, olovo, hliník, zine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potřeba na elektřinu - vodiče, dynama, v potravinářství - konzerv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chemická výro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roba kyseliny sírové, papíru, hnojiv NPK, sklo, mýdlo, umělá barviva, výbušn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Alfréd Nobe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nitroglycerin- vynález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dynamitu-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1867 a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bezdýmného střelného prac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900- využití přírodního kaučuku /guma/ na hadice, kabely, pneumatiky, bo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891- výroba umělého hedvábí, umělé lá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00- umělé hmoty: bakelit, celof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 chemického průmyslu hlavně v Německu - přes 50 % světové výroby chemikálií, u továren jsou zakládány výzkumné laboratoř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11:19:39Z</dcterms:created>
  <dc:creator>kodrova</dc:creator>
  <dc:description/>
  <dc:language>en-US</dc:language>
  <cp:lastModifiedBy>Jitka Kodrová</cp:lastModifiedBy>
  <dcterms:modified xsi:type="dcterms:W3CDTF">2015-02-09T13:43:52Z</dcterms:modified>
  <cp:revision>41</cp:revision>
  <dc:subject/>
  <dc:title>Průmyslová revoluce</dc:title>
</cp:coreProperties>
</file>