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B84A-DBFA-4BFB-938F-D5AF2BAAC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9B79-04D8-4507-983D-4FB75E8E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6F86-DACF-48BF-9945-D5BBCF31E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D6D8-831C-4BBF-A187-241F35CEF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9874-E16B-497D-84E8-CF57D183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327B-F9C6-450B-8E0E-9A40B562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1FDB-2C34-4F7F-8585-1C55F83A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FEC1-E9B6-4F18-8C22-9E07A2D2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7D44-B78C-4824-BC9E-791284D4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618E-3CFA-4062-90D8-40051D40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F2CA-6D30-469A-B6A0-27B580BC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11A1-F287-45BA-9AF5-654B0ABD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00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7B5F-8495-4508-9F1C-8F1811D34A2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0280" y="126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000000"/>
                </a:solidFill>
                <a:latin typeface="Arial"/>
              </a:rPr>
              <a:t>Kartografi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86080" y="1523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věrečné opak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utor: Tereza Kamen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http://www.gjp1.cz/new/oppa2013/nadotek.png"/>
          <p:cNvPicPr/>
          <p:nvPr/>
        </p:nvPicPr>
        <p:blipFill>
          <a:blip r:embed="rId1"/>
          <a:stretch/>
        </p:blipFill>
        <p:spPr>
          <a:xfrm>
            <a:off x="2305080" y="3276720"/>
            <a:ext cx="2381400" cy="2076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www.gjp1.cz/new/oppa2013/3_loga-upraveno.png"/>
          <p:cNvPicPr/>
          <p:nvPr/>
        </p:nvPicPr>
        <p:blipFill>
          <a:blip r:embed="rId2"/>
          <a:stretch/>
        </p:blipFill>
        <p:spPr>
          <a:xfrm>
            <a:off x="4743360" y="3276720"/>
            <a:ext cx="2381400" cy="20476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6"/>
          <p:cNvSpPr/>
          <p:nvPr/>
        </p:nvSpPr>
        <p:spPr>
          <a:xfrm>
            <a:off x="-114480" y="136692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114480" y="549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uze na severní polokouli leží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vro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ižní Amerik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fr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ntarkt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uze na severní polokouli leží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Evro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ižní Amerik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fr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ntarkt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3505320" cy="650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Doplňte do rámečků světové strany a určete zeměpisné souřadnice bodů A,B,C,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SKMBT_C22414103015090_0001"/>
          <p:cNvPicPr/>
          <p:nvPr/>
        </p:nvPicPr>
        <p:blipFill>
          <a:blip r:embed="rId1"/>
          <a:srcRect l="9475" t="63453" r="48583" b="6092"/>
          <a:stretch/>
        </p:blipFill>
        <p:spPr>
          <a:xfrm>
            <a:off x="3281400" y="838080"/>
            <a:ext cx="58626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SKMBT_C22414103015090_0001"/>
          <p:cNvPicPr/>
          <p:nvPr/>
        </p:nvPicPr>
        <p:blipFill>
          <a:blip r:embed="rId1"/>
          <a:srcRect l="9475" t="63453" r="48583" b="6092"/>
          <a:stretch/>
        </p:blipFill>
        <p:spPr>
          <a:xfrm>
            <a:off x="3281400" y="838080"/>
            <a:ext cx="5862600" cy="60199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3352680" y="36576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5943600" y="8380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8610480" y="35053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6019920" y="601992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Arial"/>
              </a:rPr>
              <a:t>J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0" y="1676520"/>
            <a:ext cx="4038480" cy="30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0000"/>
                </a:solidFill>
                <a:latin typeface="Arial"/>
              </a:rPr>
              <a:t>A:30°s.š. 20°v.d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0000"/>
                </a:solidFill>
                <a:latin typeface="Arial"/>
              </a:rPr>
              <a:t>B:20°j.š. 10°v.d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0000"/>
                </a:solidFill>
                <a:latin typeface="Arial"/>
              </a:rPr>
              <a:t>C:10°j.š. 30°z.d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0000"/>
                </a:solidFill>
                <a:latin typeface="Arial"/>
              </a:rPr>
              <a:t>D:40°s.š. 40°z.d.</a:t>
            </a:r>
            <a:r>
              <a:rPr b="0" lang="cs-CZ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 využitím školního atlasu zjistěte místa s touto zeměpisnou polohou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°v.d.,     45°s.š. (jeze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90°z.d.,     30°s.š. (přísta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47°v.d.,    42°j.š. (ostr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50°z.d.,    0° (ústí řek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Greek_lambda"/>
          <p:cNvPicPr/>
          <p:nvPr/>
        </p:nvPicPr>
        <p:blipFill>
          <a:blip r:embed="rId1"/>
          <a:srcRect l="62549" t="14992" r="7455" b="17597"/>
          <a:stretch/>
        </p:blipFill>
        <p:spPr>
          <a:xfrm>
            <a:off x="762120" y="3429000"/>
            <a:ext cx="304560" cy="457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Greek_phi"/>
          <p:cNvPicPr/>
          <p:nvPr/>
        </p:nvPicPr>
        <p:blipFill>
          <a:blip r:embed="rId2"/>
          <a:srcRect l="62555" t="33720" r="7452" b="0"/>
          <a:stretch/>
        </p:blipFill>
        <p:spPr>
          <a:xfrm>
            <a:off x="2666880" y="1676520"/>
            <a:ext cx="293760" cy="433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Greek_lambda"/>
          <p:cNvPicPr/>
          <p:nvPr/>
        </p:nvPicPr>
        <p:blipFill>
          <a:blip r:embed="rId3"/>
          <a:srcRect l="62549" t="14992" r="7455" b="17597"/>
          <a:stretch/>
        </p:blipFill>
        <p:spPr>
          <a:xfrm>
            <a:off x="762120" y="1676520"/>
            <a:ext cx="304560" cy="457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Greek_phi"/>
          <p:cNvPicPr/>
          <p:nvPr/>
        </p:nvPicPr>
        <p:blipFill>
          <a:blip r:embed="rId4"/>
          <a:srcRect l="62555" t="33720" r="7452" b="0"/>
          <a:stretch/>
        </p:blipFill>
        <p:spPr>
          <a:xfrm>
            <a:off x="2666880" y="2286000"/>
            <a:ext cx="293760" cy="433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Greek_lambda"/>
          <p:cNvPicPr/>
          <p:nvPr/>
        </p:nvPicPr>
        <p:blipFill>
          <a:blip r:embed="rId5"/>
          <a:srcRect l="62549" t="14992" r="7455" b="17597"/>
          <a:stretch/>
        </p:blipFill>
        <p:spPr>
          <a:xfrm>
            <a:off x="762120" y="2286000"/>
            <a:ext cx="304560" cy="457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Greek_phi"/>
          <p:cNvPicPr/>
          <p:nvPr/>
        </p:nvPicPr>
        <p:blipFill>
          <a:blip r:embed="rId6"/>
          <a:srcRect l="62555" t="33720" r="7452" b="0"/>
          <a:stretch/>
        </p:blipFill>
        <p:spPr>
          <a:xfrm>
            <a:off x="2819520" y="2819520"/>
            <a:ext cx="293400" cy="433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Greek_lambda"/>
          <p:cNvPicPr/>
          <p:nvPr/>
        </p:nvPicPr>
        <p:blipFill>
          <a:blip r:embed="rId7"/>
          <a:srcRect l="62549" t="14992" r="7455" b="17597"/>
          <a:stretch/>
        </p:blipFill>
        <p:spPr>
          <a:xfrm>
            <a:off x="762120" y="2819520"/>
            <a:ext cx="304560" cy="457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Greek_phi"/>
          <p:cNvPicPr/>
          <p:nvPr/>
        </p:nvPicPr>
        <p:blipFill>
          <a:blip r:embed="rId8"/>
          <a:srcRect l="62555" t="33720" r="7452" b="0"/>
          <a:stretch/>
        </p:blipFill>
        <p:spPr>
          <a:xfrm>
            <a:off x="2666880" y="3429000"/>
            <a:ext cx="29376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 využitím školního atlasu zjistěte místa s touto zeměpisnou polohou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°v.d.,     45°s.š. (jezero) – </a:t>
            </a: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Aralské jez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90°z.d.,     30°s.š. (přístav) – </a:t>
            </a: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New Orl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47°v.d.,    42°j.š. (ostrov) - </a:t>
            </a: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Tasmá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50°z.d.,    0° (ústí řeky) – </a:t>
            </a: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ústí Amazon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Greek_lambda"/>
          <p:cNvPicPr/>
          <p:nvPr/>
        </p:nvPicPr>
        <p:blipFill>
          <a:blip r:embed="rId1"/>
          <a:srcRect l="62549" t="14992" r="7455" b="17597"/>
          <a:stretch/>
        </p:blipFill>
        <p:spPr>
          <a:xfrm>
            <a:off x="533520" y="3429000"/>
            <a:ext cx="304560" cy="457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Greek_phi"/>
          <p:cNvPicPr/>
          <p:nvPr/>
        </p:nvPicPr>
        <p:blipFill>
          <a:blip r:embed="rId2"/>
          <a:srcRect l="62555" t="33720" r="7452" b="0"/>
          <a:stretch/>
        </p:blipFill>
        <p:spPr>
          <a:xfrm>
            <a:off x="2438280" y="1676520"/>
            <a:ext cx="293760" cy="433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Greek_lambda"/>
          <p:cNvPicPr/>
          <p:nvPr/>
        </p:nvPicPr>
        <p:blipFill>
          <a:blip r:embed="rId3"/>
          <a:srcRect l="62549" t="14992" r="7455" b="17597"/>
          <a:stretch/>
        </p:blipFill>
        <p:spPr>
          <a:xfrm>
            <a:off x="457200" y="1676520"/>
            <a:ext cx="30492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Greek_phi"/>
          <p:cNvPicPr/>
          <p:nvPr/>
        </p:nvPicPr>
        <p:blipFill>
          <a:blip r:embed="rId4"/>
          <a:srcRect l="62555" t="33720" r="7452" b="0"/>
          <a:stretch/>
        </p:blipFill>
        <p:spPr>
          <a:xfrm>
            <a:off x="2362320" y="2286000"/>
            <a:ext cx="293400" cy="433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Greek_lambda"/>
          <p:cNvPicPr/>
          <p:nvPr/>
        </p:nvPicPr>
        <p:blipFill>
          <a:blip r:embed="rId5"/>
          <a:srcRect l="62549" t="14992" r="7455" b="17597"/>
          <a:stretch/>
        </p:blipFill>
        <p:spPr>
          <a:xfrm>
            <a:off x="457200" y="2286000"/>
            <a:ext cx="304920" cy="457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Greek_phi"/>
          <p:cNvPicPr/>
          <p:nvPr/>
        </p:nvPicPr>
        <p:blipFill>
          <a:blip r:embed="rId6"/>
          <a:srcRect l="62555" t="33720" r="7452" b="0"/>
          <a:stretch/>
        </p:blipFill>
        <p:spPr>
          <a:xfrm>
            <a:off x="2514600" y="2819520"/>
            <a:ext cx="293760" cy="433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Greek_lambda"/>
          <p:cNvPicPr/>
          <p:nvPr/>
        </p:nvPicPr>
        <p:blipFill>
          <a:blip r:embed="rId7"/>
          <a:srcRect l="62549" t="14992" r="7455" b="17597"/>
          <a:stretch/>
        </p:blipFill>
        <p:spPr>
          <a:xfrm>
            <a:off x="457200" y="2895480"/>
            <a:ext cx="304920" cy="457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Greek_phi"/>
          <p:cNvPicPr/>
          <p:nvPr/>
        </p:nvPicPr>
        <p:blipFill>
          <a:blip r:embed="rId8"/>
          <a:srcRect l="62555" t="33720" r="7452" b="0"/>
          <a:stretch/>
        </p:blipFill>
        <p:spPr>
          <a:xfrm>
            <a:off x="2362320" y="3429000"/>
            <a:ext cx="29340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vyobrazených mapách světa jsou zcela rozdílně zakresleny tvary kontinentů a uspořádání zeměpisné sítě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876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činou může být zkreslení délek, ploch, úhlů vznikající při zobrazování zakřiveného zemského povrchu do roviny odlišnými zobrazovacími způso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činou je volba odlišných uměleckých způsobů zobrazení povrchu celé Zem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činou je zkreslení vznikající při chybném zobrazování délek, ploch a úhlů povrchu zeměkoule do rov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činou je skutečnost, že povrch zeměkoule nelze vůbec zobrazovat do roviny, lze ho zobrazit jen s pomocí glóbu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rcRect l="49816" t="11219" r="6322" b="54061"/>
          <a:stretch/>
        </p:blipFill>
        <p:spPr>
          <a:xfrm>
            <a:off x="5257800" y="1676520"/>
            <a:ext cx="3886200" cy="2241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2"/>
          <a:srcRect l="49816" t="52020" r="6322" b="14279"/>
          <a:stretch/>
        </p:blipFill>
        <p:spPr>
          <a:xfrm>
            <a:off x="5334120" y="4340160"/>
            <a:ext cx="38098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vyobrazených mapách světa jsou zcela rozdílně zakresleny tvary kontinentů a uspořádání zeměpisné sítě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876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říčinou může být zkreslení délek, ploch, úhlů vznikající při zobrazování zakřiveného zemského povrchu do roviny odlišnými zobrazovacími způso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činou je volba odlišných uměleckých způsobů zobrazení povrchu celé Zem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činou je zkreslení vznikající při chybném zobrazování délek, ploch a úhlů povrchu zeměkoule do rov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činou je skutečnost, že povrch zeměkoule nelze vůbec zobrazovat do roviny, lze ho zobrazit jen s pomocí glóbu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rcRect l="49816" t="11219" r="6322" b="54061"/>
          <a:stretch/>
        </p:blipFill>
        <p:spPr>
          <a:xfrm>
            <a:off x="5257800" y="1676520"/>
            <a:ext cx="3886200" cy="2241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rcRect l="49816" t="52020" r="6322" b="14279"/>
          <a:stretch/>
        </p:blipFill>
        <p:spPr>
          <a:xfrm>
            <a:off x="5334120" y="4340160"/>
            <a:ext cx="38098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 vyobrazeném plánu města, představuje 1cm 50metrů skutečné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dálenos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7246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aké je měřítko map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Do jaké kategorie map patří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py malých měří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py středních měří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py velkých měří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rcRect l="8923" t="10263" r="47957" b="10712"/>
          <a:stretch/>
        </p:blipFill>
        <p:spPr>
          <a:xfrm>
            <a:off x="4838760" y="1143000"/>
            <a:ext cx="4305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 vyobrazeném plánu města, představuje 1cm 50metrů skutečné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dálenos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7246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é je měřítko map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cm je 5000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měřítko je tedy 1:5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Do jaké kategorie map patří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py malých měřít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py středních měřít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mapy velkých měřít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rcRect l="8923" t="10263" r="47957" b="10712"/>
          <a:stretch/>
        </p:blipFill>
        <p:spPr>
          <a:xfrm>
            <a:off x="4838760" y="1143000"/>
            <a:ext cx="4305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hodněte, která tvrzení platí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a rovníku, odpovídá délce základního polední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a rovníku je větší než délka datové hra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a rovníku odpovídá součtu délek základního poledníku a datové hra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a rovníku je větší než součet délek základního poledníku a datové hra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 mapě v měřítku 1:50 000 představuje vzdálenost dvou míst 6cm. Určete, jaká je jejich vzdálenost ve skutečnosti v kilometre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 mapě v měřítku 1:50 000 představuje vzdálenost dvou míst 6cm. Určete, jaká je jejich vzdálenost ve skutečnosti v kilometre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vzdálenost je 3km (1cm odpovídá 0,5k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Určete, o jakou mapu se jedná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uristická m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litická m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ecně zeměpisná m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pa tematická (zemědělstv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rcRect l="54276" t="8209" r="3718" b="13341"/>
          <a:stretch/>
        </p:blipFill>
        <p:spPr>
          <a:xfrm>
            <a:off x="4838760" y="838080"/>
            <a:ext cx="4305240" cy="58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Určete, o jakou mapu se jedná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3300"/>
                </a:solidFill>
                <a:latin typeface="Arial"/>
              </a:rPr>
              <a:t>turistická m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litická m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ecně zeměpisná m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pa tematická (zemědělstv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rcRect l="54276" t="8209" r="3718" b="13341"/>
          <a:stretch/>
        </p:blipFill>
        <p:spPr>
          <a:xfrm>
            <a:off x="4838760" y="838080"/>
            <a:ext cx="4305240" cy="58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Určete, o jakou mapu se jedná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uristická m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litická m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ecně zeměpisná m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pa tematická (zemědělstv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SKMBT_C22414103015130_0001"/>
          <p:cNvPicPr/>
          <p:nvPr/>
        </p:nvPicPr>
        <p:blipFill>
          <a:blip r:embed="rId1"/>
          <a:srcRect l="4035" t="24238" r="51608" b="38693"/>
          <a:stretch/>
        </p:blipFill>
        <p:spPr>
          <a:xfrm>
            <a:off x="4695840" y="1600200"/>
            <a:ext cx="44481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Určete, o jakou mapu se jedná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uristická m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litická m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obecně zeměpisná m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pa tematická (zemědělstv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SKMBT_C22414103015130_0001"/>
          <p:cNvPicPr/>
          <p:nvPr/>
        </p:nvPicPr>
        <p:blipFill>
          <a:blip r:embed="rId1"/>
          <a:srcRect l="4035" t="24238" r="51608" b="38693"/>
          <a:stretch/>
        </p:blipFill>
        <p:spPr>
          <a:xfrm>
            <a:off x="4695840" y="1600200"/>
            <a:ext cx="44481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Určete, o jakou mapu se jedná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3733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uristická m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litická m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ecně zeměpisná m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pa tematická (průmys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SKMBT_C22414103015130_0001"/>
          <p:cNvPicPr/>
          <p:nvPr/>
        </p:nvPicPr>
        <p:blipFill>
          <a:blip r:embed="rId1"/>
          <a:srcRect l="49402" t="4277" r="6240" b="61506"/>
          <a:stretch/>
        </p:blipFill>
        <p:spPr>
          <a:xfrm>
            <a:off x="3975120" y="1219320"/>
            <a:ext cx="51688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Určete, o jakou mapu se jedná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3733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uristická m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litická m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ecně zeměpisná m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mapa tematická (průmys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SKMBT_C22414103015130_0001"/>
          <p:cNvPicPr/>
          <p:nvPr/>
        </p:nvPicPr>
        <p:blipFill>
          <a:blip r:embed="rId1"/>
          <a:srcRect l="49402" t="4277" r="6240" b="61506"/>
          <a:stretch/>
        </p:blipFill>
        <p:spPr>
          <a:xfrm>
            <a:off x="3975120" y="1219320"/>
            <a:ext cx="51688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Určete, o jakou mapu se jedná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pa histor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pa nerostných surov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uristická m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pa z autoatla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SKMBT_C22414103015130_0001"/>
          <p:cNvPicPr/>
          <p:nvPr/>
        </p:nvPicPr>
        <p:blipFill>
          <a:blip r:embed="rId1"/>
          <a:srcRect l="47578" t="51332" r="8065" b="7322"/>
          <a:stretch/>
        </p:blipFill>
        <p:spPr>
          <a:xfrm>
            <a:off x="4692600" y="990720"/>
            <a:ext cx="44514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Určete, o jakou mapu se jedná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mapa histor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pa nerostných surov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uristická m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pa z autoatla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SKMBT_C22414103015130_0001"/>
          <p:cNvPicPr/>
          <p:nvPr/>
        </p:nvPicPr>
        <p:blipFill>
          <a:blip r:embed="rId1"/>
          <a:srcRect l="47578" t="51332" r="8065" b="7322"/>
          <a:stretch/>
        </p:blipFill>
        <p:spPr>
          <a:xfrm>
            <a:off x="4692600" y="990720"/>
            <a:ext cx="44514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hodněte, která tvrzení platí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a rovníku, odpovídá délce základního polední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délka rovníku je větší než délka datové hra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a rovníku odpovídá součtu délek základního poledníku a datové hra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a rovníku je větší než součet délek základního poledníku a datové hra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Určete, o jakou mapu se jedná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uristická m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litická m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ecně zeměpisná m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pa tematická (průmys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SKMBT_C22414103015150_0001"/>
          <p:cNvPicPr/>
          <p:nvPr/>
        </p:nvPicPr>
        <p:blipFill>
          <a:blip r:embed="rId1"/>
          <a:srcRect l="7059" t="4991" r="49593" b="51524"/>
          <a:stretch/>
        </p:blipFill>
        <p:spPr>
          <a:xfrm>
            <a:off x="4416480" y="152280"/>
            <a:ext cx="47275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Určete, o jakou mapu se jedná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turistická m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litická m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ecně zeměpisná m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pa tematická (průmys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SKMBT_C22414103015150_0001"/>
          <p:cNvPicPr/>
          <p:nvPr/>
        </p:nvPicPr>
        <p:blipFill>
          <a:blip r:embed="rId1"/>
          <a:srcRect l="7059" t="4991" r="49593" b="51524"/>
          <a:stretch/>
        </p:blipFill>
        <p:spPr>
          <a:xfrm>
            <a:off x="4416480" y="152280"/>
            <a:ext cx="47275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 obrázku jsou vyznačeny směry pochodu A-B a B-C. Vyberte správné odpovědi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 bodu A do B se jedná o stoupání/kles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 bodu B do C se jedná o stoupání/kles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SKMBT_C22414103015160_0001"/>
          <p:cNvPicPr/>
          <p:nvPr/>
        </p:nvPicPr>
        <p:blipFill>
          <a:blip r:embed="rId1"/>
          <a:srcRect l="6050" t="9167" r="49593" b="72913"/>
          <a:stretch/>
        </p:blipFill>
        <p:spPr>
          <a:xfrm>
            <a:off x="685800" y="2678040"/>
            <a:ext cx="731520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 obrázku jsou vyznačeny směry pochodu A-B a B-C. Vyberte správné odpovědi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 bodu A do B se jedná o stoupání/</a:t>
            </a: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kles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 bodu B do C se jedná o </a:t>
            </a: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stoupán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/kles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SKMBT_C22414103015160_0001"/>
          <p:cNvPicPr/>
          <p:nvPr/>
        </p:nvPicPr>
        <p:blipFill>
          <a:blip r:embed="rId1"/>
          <a:srcRect l="6050" t="9167" r="49593" b="72913"/>
          <a:stretch/>
        </p:blipFill>
        <p:spPr>
          <a:xfrm>
            <a:off x="685800" y="2678040"/>
            <a:ext cx="731520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a zobrazené mapě určet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aký je rozestup vrstevn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e kterého místa (A nebo B) bude vidět vyznačený hot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SKMBT_C22414103015160_0001"/>
          <p:cNvPicPr/>
          <p:nvPr/>
        </p:nvPicPr>
        <p:blipFill>
          <a:blip r:embed="rId1"/>
          <a:srcRect l="5040" t="36359" r="51608" b="44394"/>
          <a:stretch/>
        </p:blipFill>
        <p:spPr>
          <a:xfrm>
            <a:off x="990720" y="2552760"/>
            <a:ext cx="68580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a zobrazené mapě určet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6868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aký je rozestup vrstevnic? </a:t>
            </a: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50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e kterého místa (A nebo B) bude vidět vyznačený hotel? </a:t>
            </a: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Hotel bude vidět z místa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SKMBT_C22414103015160_0001"/>
          <p:cNvPicPr/>
          <p:nvPr/>
        </p:nvPicPr>
        <p:blipFill>
          <a:blip r:embed="rId1"/>
          <a:srcRect l="5040" t="36359" r="51608" b="44394"/>
          <a:stretch/>
        </p:blipFill>
        <p:spPr>
          <a:xfrm>
            <a:off x="990720" y="2552760"/>
            <a:ext cx="68580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klady zeměpisných znalostí, J.Herink, S.Tlach, Nakladatelství České geografické společ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Všechny poledníky procházejí na Zem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vrop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s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merik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ntarktid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kový světadíl neexistu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Všechny poledníky procházejí na Zem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vrop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s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merik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Antarktid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kový světadíl neexistu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lavní poledník prochází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vrop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s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merik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ižní Amerik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frik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ntarktid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lavní poledník prochází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Evrop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s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merik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ižní Amerik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Afrik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Antarktid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Rovník prochází těmito světadíl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vrop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s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ižní Amerik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frik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ntarktid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Rovník prochází těmito světadíl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vrop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As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Jižní Amerik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Afrik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ntarktid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ereza Kamenická</dc:creator>
  <dc:description/>
  <dc:language>en-US</dc:language>
  <cp:lastModifiedBy>Tereza Kamenická</cp:lastModifiedBy>
  <dcterms:modified xsi:type="dcterms:W3CDTF">2015-01-22T13:29:28Z</dcterms:modified>
  <cp:revision>8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