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B3DAF-D880-4F61-878C-6902D80FF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9E1EB-4A1F-4628-8B1A-680C17C84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9E58F-44FA-452B-9AA2-F9FF62128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6E9AB-9979-4A6C-99CA-A9060C7CF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38984-BFBC-4A56-B933-861D1CAB3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3EEBE-F0F4-4F45-A02C-58C75EE1C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F4A9D-618D-4B71-B7E7-A180DFA1B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D9BD3-612E-4D8D-821E-44CAF1EC9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80DF6-4AE0-466D-95EB-EBF89E3CD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A44D0-B383-45FF-B110-68FDA9001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75372-E296-4A7B-A165-C3C33DD88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B7C98-73FB-43B6-84B6-5DC541F22F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26F0F-FE64-4CDF-9C50-1321C399E4BE}"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9/91/Shuttle_with_bobin.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upload.wikimedia.org/wikipedia/commons/2/2c/James_Watt_by_Henry_Howard.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ůmyslová revoluc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utor: Jitka Kodrová</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http://www.gjp1.cz/new/oppa2013/nadotek.png"/>
          <p:cNvPicPr/>
          <p:nvPr/>
        </p:nvPicPr>
        <p:blipFill>
          <a:blip r:embed="rId1"/>
          <a:stretch/>
        </p:blipFill>
        <p:spPr>
          <a:xfrm>
            <a:off x="169920" y="434880"/>
            <a:ext cx="4632120" cy="3841920"/>
          </a:xfrm>
          <a:prstGeom prst="rect">
            <a:avLst/>
          </a:prstGeom>
          <a:ln w="0">
            <a:noFill/>
          </a:ln>
        </p:spPr>
      </p:pic>
      <p:pic>
        <p:nvPicPr>
          <p:cNvPr id="53" name="Picture 6" descr="http://www.gjp1.cz/new/oppa2013/3_loga-upraveno.png"/>
          <p:cNvPicPr/>
          <p:nvPr/>
        </p:nvPicPr>
        <p:blipFill>
          <a:blip r:embed="rId2"/>
          <a:stretch/>
        </p:blipFill>
        <p:spPr>
          <a:xfrm>
            <a:off x="4572000" y="482760"/>
            <a:ext cx="4422600" cy="379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oužité zdroje:</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https://www.google.cz/search?q=pr%C5%AFmyslov%C3%A1+revoluce&amp;biw=1280&amp;bih=699&amp;source=lnms&amp;tbm=isch&amp;sa=X&amp;ei=xbjYVOKOGI7saOy-gvgD&amp;sqi=2&amp;ved=0CAYQ_AUoAQ</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5" descr="Soubor:Shuttle with bobin.jpg">
            <a:hlinkClick r:id="rId1"/>
          </p:cNvPr>
          <p:cNvPicPr/>
          <p:nvPr/>
        </p:nvPicPr>
        <p:blipFill>
          <a:blip r:embed="rId2"/>
          <a:stretch/>
        </p:blipFill>
        <p:spPr>
          <a:xfrm>
            <a:off x="3867120" y="590400"/>
            <a:ext cx="1409760" cy="567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5" descr="prumyslova-revoluce-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obrázek 7" descr="Hargreavesův spřádací stroj jenny z roku 1770"/>
          <p:cNvPicPr/>
          <p:nvPr/>
        </p:nvPicPr>
        <p:blipFill>
          <a:blip r:embed="rId1"/>
          <a:stretch/>
        </p:blipFill>
        <p:spPr>
          <a:xfrm>
            <a:off x="0" y="38160"/>
            <a:ext cx="9144000" cy="681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A Watt steam engine in Madrid. The development of the steam engine started the industrial revolution in England. The steam engine was created to pump water from coal mines, enabling them to be deepened beyond groundwater level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obrázek 4" descr="Soubor:James Watt by Henry Howard.jpg">
            <a:hlinkClick r:id="rId1"/>
          </p:cNvPr>
          <p:cNvPicPr/>
          <p:nvPr/>
        </p:nvPicPr>
        <p:blipFill>
          <a:blip r:embed="rId2"/>
          <a:stretch/>
        </p:blipFill>
        <p:spPr>
          <a:xfrm>
            <a:off x="0" y="0"/>
            <a:ext cx="565164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05_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Stephenson  - Raketa – první parní lokomotiva</a:t>
            </a:r>
            <a:endParaRPr b="0" lang="en-US" sz="4000" spc="-1" strike="noStrike">
              <a:solidFill>
                <a:srgbClr val="000000"/>
              </a:solidFill>
              <a:latin typeface="Arial"/>
            </a:endParaRPr>
          </a:p>
        </p:txBody>
      </p:sp>
      <p:pic>
        <p:nvPicPr>
          <p:cNvPr id="50" name="Picture 6" descr="muzeum-vedy-londyn-2"/>
          <p:cNvPicPr/>
          <p:nvPr/>
        </p:nvPicPr>
        <p:blipFill>
          <a:blip r:embed="rId1"/>
          <a:stretch/>
        </p:blipFill>
        <p:spPr>
          <a:xfrm>
            <a:off x="1187280" y="1413000"/>
            <a:ext cx="6480360" cy="544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Over London by Rail Gustave Doré c 1870. Shows the densely populated and polluted environments created in the new industrial citi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9T20:23:37Z</dcterms:created>
  <dc:creator>Acer</dc:creator>
  <dc:description/>
  <dc:language>en-US</dc:language>
  <cp:lastModifiedBy>Jitka Kodrová</cp:lastModifiedBy>
  <dcterms:modified xsi:type="dcterms:W3CDTF">2015-02-09T13:40:36Z</dcterms:modified>
  <cp:revision>9</cp:revision>
  <dc:subject/>
  <dc:title>Průmyslová revoluce</dc:title>
</cp:coreProperties>
</file>