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1CB9-1BB4-426F-95DF-DC592109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13E4-4972-48DB-A932-75FC7E76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24F6-3ED6-4C94-9B12-6B5E9796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A40E-E367-4FD7-AD49-A3C28CA6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6902-92B9-4CBB-8D64-490ADBA2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25A9-9729-4F12-B762-A80247BD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20E6-3ED5-4A1E-B9EB-91458F93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9796-FD35-49FE-93C5-96DC8022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B3DE-32AE-4D6F-A462-5423FF40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691A-87D9-4D8E-8C94-21443C97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2EDF-53FA-4B3B-A006-83A64DF6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D026-C357-4ABE-9C66-54F433C3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9172-D216-4BB7-8FC2-C53280BAB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ineralogie-puchnerova.estranky.cz/fotoalbum/pudy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edosfé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119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ál pro studenty se specifickými vzdělávacími potřeba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r: Tereza Kamenick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2124000" y="3141720"/>
            <a:ext cx="575316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724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rktické půdy a půdy tunde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sever Ameriky a Eurasie, v létě zamrzají až do 1m, pod tím vrstva která nerozmrzá -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mafr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odzoly a podzolové půd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ve vlhčím a chladnějším podnebí, pod smrkovými lesy, kyselé půdy s malou úrodností.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dzolizační proc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chemický rozklad horninových nerostů vlivem organických kyselin. Rozložené látky se s vodou dostávají do spodních poloh, kde se hromadí. Typický je světle šedý horizont, který přechází do rezavě hnědé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nědé lesní půd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nejrozšířenější ve Střední Evropě. Vznikají ve svažitých horských terénech, hlavně pod listnatými lesy v mírně teplém a vlhkém podnebí. Vznikají tzv.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brunifikací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ermafr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48360" y="3213000"/>
            <a:ext cx="3309840" cy="28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ttp://frontierscientists.com/2013/02/carbon-in-permafrost-atmosphere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permafrost stone rings Svalbard Norway"/>
          <p:cNvPicPr/>
          <p:nvPr/>
        </p:nvPicPr>
        <p:blipFill>
          <a:blip r:embed="rId1"/>
          <a:stretch/>
        </p:blipFill>
        <p:spPr>
          <a:xfrm>
            <a:off x="3429000" y="257184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permafrost ice wedge"/>
          <p:cNvPicPr/>
          <p:nvPr/>
        </p:nvPicPr>
        <p:blipFill>
          <a:blip r:embed="rId2"/>
          <a:stretch/>
        </p:blipFill>
        <p:spPr>
          <a:xfrm>
            <a:off x="0" y="4552920"/>
            <a:ext cx="33336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02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dzolová pů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6360" y="1981080"/>
            <a:ext cx="33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ttp://www.encyclopedia.com/topic/podzol.asp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podzol images"/>
          <p:cNvPicPr/>
          <p:nvPr/>
        </p:nvPicPr>
        <p:blipFill>
          <a:blip r:embed="rId1"/>
          <a:stretch/>
        </p:blipFill>
        <p:spPr>
          <a:xfrm>
            <a:off x="4297320" y="0"/>
            <a:ext cx="484668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77720" y="3200400"/>
            <a:ext cx="1862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mineralogie-puchnerova.estranky.cz/fotoalbum/pudy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2409840"/>
            <a:ext cx="28098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nědá lesní pů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ttp://www.semena-rostliny.cz/blog/144-jak-sprave-zalozit-komp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dob&amp;rcaron;e vyzrálý kompost"/>
          <p:cNvPicPr/>
          <p:nvPr/>
        </p:nvPicPr>
        <p:blipFill>
          <a:blip r:embed="rId1"/>
          <a:stretch/>
        </p:blipFill>
        <p:spPr>
          <a:xfrm>
            <a:off x="0" y="1959120"/>
            <a:ext cx="91440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4360" y="115920"/>
            <a:ext cx="7773840" cy="69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nědozemě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v nížinách a kotlinách do 450m.n.m. Hlavně pod listnatými lesy. Hlavním procesem j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ilimerizac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přesun nerozložených jílových částic a železa s prosakující vodou do spodních poloh profil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Černozemě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půdy travnatých stepí a lesostepí mírného pásu s kontinentálním podnebím. Mají pouze horizont A a C.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d černého moře, přes Ukrajinu až na jižní Slovensko. U nás Úvaly, Povltaví, Poohří a Polabí. V Severní Americe pás původních prérií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Kaštanové půd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půdy suchých stepí, slouží jako pastviny, humif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ouštní a polopouštní pů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Žlutozemě a červenozemě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často dochází k 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terizac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podzemní vody vynášejí k povrchu sloučeniny železa a hliníku, které vytvářejí na povrchu krust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nědozem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76720" y="4365720"/>
            <a:ext cx="223200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ttp://ostrava-educanet.cz/svoboda/vyuka/kvinta/pudni_druhy_pudni_typy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www.herber.webz.cz"/>
          <p:cNvPicPr/>
          <p:nvPr/>
        </p:nvPicPr>
        <p:blipFill>
          <a:blip r:embed="rId1"/>
          <a:stretch/>
        </p:blipFill>
        <p:spPr>
          <a:xfrm>
            <a:off x="185760" y="1989000"/>
            <a:ext cx="3462480" cy="4869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16360" y="3933720"/>
            <a:ext cx="2589480" cy="2924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308720" y="765000"/>
            <a:ext cx="135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mineralogie-puchnerova.estranky.cz/fotoalbum/pudy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Černozem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23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ttp://ostrava-educanet.cz/svoboda/vyuka/kvinta/pudni_druhy_pudni_typy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767120" y="1916280"/>
            <a:ext cx="4376880" cy="4941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2349360"/>
            <a:ext cx="388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ttp://www.mineralogie-puchnerova.estranky.cz/fotoalbum/pudy/cernozem.jpg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37101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vní pů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1520" y="1628640"/>
            <a:ext cx="4632480" cy="5229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365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mineralogie-puchnerova.estranky.cz/fotoalbum/pudy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35035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žlutozemě a červenozem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ttp://refresher.cz/8888-Filling-Pieces-Lookbook-jarleto-20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787320"/>
            <a:ext cx="914400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mineralogie-puchnerova.estranky.cz/fotoalbum/pudy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ttp://ostrava-educanet.cz/svoboda/vyuka/kvinta/pudni_druhy_pudni_typy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edosfé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větráváním matečných hornin vzniká zvětralinový plášť, z něho postupně vzniká pů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ůda tvoří mocný obal Země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dosfér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svrchní obdělávaná část půdy se nazývá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nic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podorniční vrstva se nazývá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spod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ůda je svrchní vrstva litosféry transformovaná (přeměněná) působením sluneční radiace, vody, organismů a člověk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DOSFÉR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SN vyhlásila rok 2015 rokem pů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ttp://www.bio-info.cz/zpravy/osn-vyhlasila-rok-2015-mezinarodnim-rokem-p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piscita_puda445.jpg"/>
          <p:cNvPicPr/>
          <p:nvPr/>
        </p:nvPicPr>
        <p:blipFill>
          <a:blip r:embed="rId1"/>
          <a:stretch/>
        </p:blipFill>
        <p:spPr>
          <a:xfrm>
            <a:off x="395280" y="1461960"/>
            <a:ext cx="828036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440" y="333360"/>
            <a:ext cx="81342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 na rozhraní mezi živou a neživou přírod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voří ji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živá složk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zvětraliny, půdní voda, půdní vzduch a humus (neživá organická součást půdy) a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živá složk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rostlinné a živočišné organismy tzv. edaf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de o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ěžko obnovitelný přírodní zdroj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je základním výrobním prostředk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jvýznamnější vlastností půdy je její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úrodnos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přirozená a umělá (kulturní) úrod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360" y="33336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znik půdy je složitý děj na kterém se podílejí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ůdotvorní činitel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yvolávající půdotvorné proces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initelé - matečná hornina, povaha terénu, podnebí, voda, rostlinstvo, živočišstvo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9200" y="4005360"/>
            <a:ext cx="60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asz.cz/cs/zpravy-z-tisku/legislativa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p&amp;uring;da"/>
          <p:cNvPicPr/>
          <p:nvPr/>
        </p:nvPicPr>
        <p:blipFill>
          <a:blip r:embed="rId1"/>
          <a:stretch/>
        </p:blipFill>
        <p:spPr>
          <a:xfrm>
            <a:off x="1692360" y="3111480"/>
            <a:ext cx="59040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ůdní dru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zlišujeme podle zrnit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ůdy lehké (písčité) do 10% jí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ředně těžké (hlinité) 10-75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ěžké (jílovité) nad 7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pís&amp;ccaron;itá p&amp;uring;da"/>
          <p:cNvPicPr/>
          <p:nvPr/>
        </p:nvPicPr>
        <p:blipFill>
          <a:blip r:embed="rId1"/>
          <a:stretch/>
        </p:blipFill>
        <p:spPr>
          <a:xfrm>
            <a:off x="5148360" y="4151160"/>
            <a:ext cx="39956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ůdní profil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980640"/>
            <a:ext cx="80629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ikální struktura půd je tvořena půdními horizonty, které vytvářejí půdní profil. Jednotlivé půdní horizonty se liší morfologickými znaky (barva, struktura, zrnitost a pod.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ákladní jsou tři označené AB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rizont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e nejvrchnější z dokonale zvětralých částic, bohatý humusem. Rostliny z něj                       čerpají živi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rizont 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e obohacený o látky                           vyplavené vodou z horizontu 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rizont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e nezasažená matečná                          hornina nebo její zvětralin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31080" y="5516640"/>
            <a:ext cx="221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img.obrazky.cz/?url=0896f21a998d13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http://img.obrazky.cz/?url=0896f21a998d132d"/>
          <p:cNvPicPr/>
          <p:nvPr/>
        </p:nvPicPr>
        <p:blipFill>
          <a:blip r:embed="rId1"/>
          <a:stretch/>
        </p:blipFill>
        <p:spPr>
          <a:xfrm>
            <a:off x="6961320" y="3789360"/>
            <a:ext cx="21826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403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http://ostrava-educanet.cz/svoboda/vyuka/kvinta/pedosfera.ht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19640" y="1989000"/>
            <a:ext cx="33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ttp://cs.wikipedia.org/wiki/P%C5%AFda_%28pedologie%2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911840" y="1700280"/>
            <a:ext cx="4232160" cy="5157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47163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ůdní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dle přítomnosti a vývoje půdních horizontů a podle obsahu humu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 rozšíření půd se projevují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zákonitosti geografické zonál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akroklimatické rozdíly vyvolávají vodorovnou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pásmovitost půd (horizontální zonálnos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platňuje se i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výšková stupňovitost (vertikální zonálnos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ále můžeme pozorovat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azonalit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nivní pů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8:28:03Z</dcterms:created>
  <dc:creator>geol p900-3</dc:creator>
  <dc:description/>
  <dc:language>en-US</dc:language>
  <cp:lastModifiedBy>O.Kamenický</cp:lastModifiedBy>
  <dcterms:modified xsi:type="dcterms:W3CDTF">2015-04-20T20:21:45Z</dcterms:modified>
  <cp:revision>64</cp:revision>
  <dc:subject/>
  <dc:title>Bez nadpisu</dc:title>
</cp:coreProperties>
</file>