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989-A762-4C80-AD1F-82E20402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37C-8E2D-4C6A-B732-24C3FB91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B9A-CD24-45BB-A756-37631C9B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4B4-05C7-4479-81DA-0C20A743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3F8-1892-4318-9AB3-BC01951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C39-119B-45D0-9322-BF1076A9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CB2-0F62-4301-BB0D-46B5B66B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EE9-AA38-403E-B709-5CF26CC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B0A-E85F-42E4-87C8-E61D6CBE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C37-93EB-4732-816B-A2774C0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DEB-B9C2-45AE-84A7-31646B1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821-1704-4B2F-9433-7DAB787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6"/>
            </a:gs>
            <a:gs pos="100000">
              <a:srgbClr val="66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701-D7E8-4EA1-8B3B-5107D2ECBA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&#356;an-&#353;an" TargetMode="External"/><Relationship Id="rId2" Type="http://schemas.openxmlformats.org/officeDocument/2006/relationships/hyperlink" Target="http://cs.wikipedia.org/wiki/&#268;&#237;na" TargetMode="External"/><Relationship Id="rId3" Type="http://schemas.openxmlformats.org/officeDocument/2006/relationships/hyperlink" Target="http://cs.wikipedia.org/wiki/1976" TargetMode="External"/><Relationship Id="rId4" Type="http://schemas.openxmlformats.org/officeDocument/2006/relationships/hyperlink" Target="http://cs.wikipedia.org/w/index.php?title=Nan-&#353;an&amp;action=edit&amp;redlink=1" TargetMode="External"/><Relationship Id="rId5" Type="http://schemas.openxmlformats.org/officeDocument/2006/relationships/hyperlink" Target="http://cs.wikipedia.org/wiki/&#268;&#237;na" TargetMode="External"/><Relationship Id="rId6" Type="http://schemas.openxmlformats.org/officeDocument/2006/relationships/hyperlink" Target="http://cs.wikipedia.org/wiki/1927" TargetMode="External"/><Relationship Id="rId7" Type="http://schemas.openxmlformats.org/officeDocument/2006/relationships/hyperlink" Target="http://cs.wikipedia.org/wiki/Kan-su" TargetMode="External"/><Relationship Id="rId8" Type="http://schemas.openxmlformats.org/officeDocument/2006/relationships/hyperlink" Target="http://cs.wikipedia.org/wiki/&#268;&#237;na" TargetMode="External"/><Relationship Id="rId9" Type="http://schemas.openxmlformats.org/officeDocument/2006/relationships/hyperlink" Target="http://cs.wikipedia.org/wiki/1920" TargetMode="External"/><Relationship Id="rId10" Type="http://schemas.openxmlformats.org/officeDocument/2006/relationships/hyperlink" Target="http://cs.wikipedia.org/wiki/Tokio" TargetMode="External"/><Relationship Id="rId11" Type="http://schemas.openxmlformats.org/officeDocument/2006/relationships/hyperlink" Target="http://cs.wikipedia.org/wiki/Jokohama" TargetMode="External"/><Relationship Id="rId12" Type="http://schemas.openxmlformats.org/officeDocument/2006/relationships/hyperlink" Target="http://cs.wikipedia.org/wiki/Japonsko" TargetMode="External"/><Relationship Id="rId13" Type="http://schemas.openxmlformats.org/officeDocument/2006/relationships/hyperlink" Target="http://cs.wikipedia.org/wiki/1923" TargetMode="External"/><Relationship Id="rId14" Type="http://schemas.openxmlformats.org/officeDocument/2006/relationships/hyperlink" Target="http://cs.wikipedia.org/wiki/Messina" TargetMode="External"/><Relationship Id="rId15" Type="http://schemas.openxmlformats.org/officeDocument/2006/relationships/hyperlink" Target="http://cs.wikipedia.org/wiki/It&#225;lie" TargetMode="External"/><Relationship Id="rId16" Type="http://schemas.openxmlformats.org/officeDocument/2006/relationships/hyperlink" Target="http://cs.wikipedia.org/wiki/1908" TargetMode="External"/><Relationship Id="rId17" Type="http://schemas.openxmlformats.org/officeDocument/2006/relationships/hyperlink" Target="http://cs.wikipedia.org/w/index.php?title=Kv&#233;ta&amp;action=edit&amp;redlink=1" TargetMode="External"/><Relationship Id="rId18" Type="http://schemas.openxmlformats.org/officeDocument/2006/relationships/hyperlink" Target="http://cs.wikipedia.org/wiki/Bal&#250;&#269;ist&#225;n" TargetMode="External"/><Relationship Id="rId19" Type="http://schemas.openxmlformats.org/officeDocument/2006/relationships/hyperlink" Target="http://cs.wikipedia.org/wiki/P&#225;kist&#225;n" TargetMode="External"/><Relationship Id="rId20" Type="http://schemas.openxmlformats.org/officeDocument/2006/relationships/hyperlink" Target="http://cs.wikipedia.org/wiki/1935" TargetMode="External"/><Relationship Id="rId21" Type="http://schemas.openxmlformats.org/officeDocument/2006/relationships/hyperlink" Target="http://cs.wikipedia.org/wiki/Peru" TargetMode="External"/><Relationship Id="rId22" Type="http://schemas.openxmlformats.org/officeDocument/2006/relationships/hyperlink" Target="http://cs.wikipedia.org/wiki/1970" TargetMode="External"/><Relationship Id="rId23" Type="http://schemas.openxmlformats.org/officeDocument/2006/relationships/hyperlink" Target="http://cs.wikipedia.org/w/index.php?title=Erzincan&amp;action=edit&amp;redlink=1" TargetMode="External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http://newxspotters.com/photoAlbums/tsunamiDestination/images/Tsunami%202004%208_jpg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Zemětřesení a jeho ná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12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rezentace pro studenty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00000" y="2406600"/>
            <a:ext cx="7488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0m vysoká vlna tsunami zasáhla město Na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img.mf.cz/802/556/1-2011_03_11T134528Z_869276912_GM1E73B1ODZ01_RTRMADP_3_JAPAN_QUAKE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1-2011_03_11T134528Z_869276912_GM1E73B1ODZ01_RTRMADP_3_JAPAN_QUAKE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my ve městě Natori byly vodou doslova spláchnuty, předešlé zemětřesení způsobilo požár.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zpravy.e15.cz/zahranicni/udalosti/obrazem-zemetreseni-v-japonsku-517925/galerie/?id=706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1-BASEIMAGE"/>
          <p:cNvPicPr/>
          <p:nvPr/>
        </p:nvPicPr>
        <p:blipFill>
          <a:blip r:embed="rId1"/>
          <a:srcRect l="0" t="0" r="0" b="7748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dě smetené přílivovou vlnou v přístavním městě Asahikaw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img.mf.cz/003/557/1-BASEIMAGE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1-BASEIMAGE"/>
          <p:cNvPicPr/>
          <p:nvPr/>
        </p:nvPicPr>
        <p:blipFill>
          <a:blip r:embed="rId1"/>
          <a:stretch/>
        </p:blipFill>
        <p:spPr>
          <a:xfrm>
            <a:off x="0" y="124128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ělník prohlíží zničenou dálnici u města Mito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img.mf.cz/961/556/1-P201103110828601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1-P201103110828601"/>
          <p:cNvPicPr/>
          <p:nvPr/>
        </p:nvPicPr>
        <p:blipFill>
          <a:blip r:embed="rId1"/>
          <a:stretch/>
        </p:blipFill>
        <p:spPr>
          <a:xfrm>
            <a:off x="755640" y="1092240"/>
            <a:ext cx="766764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jničivější otřesy 20.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071720"/>
          <a:ext cx="8572680" cy="578484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440"/>
                <a:gridCol w="2143080"/>
              </a:tblGrid>
              <a:tr h="42840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ižená obl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 ob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itu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87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Ťan-šan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Č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1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840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Nan-šan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Č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19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87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Kan-su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Č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1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509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Tokio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Jokohama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Japons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1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840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/>
                        </a:rPr>
                        <a:t>Messina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/>
                        </a:rPr>
                        <a:t>Itá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6"/>
                        </a:rPr>
                        <a:t>19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95112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7"/>
                        </a:rPr>
                        <a:t>Kvéta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8"/>
                        </a:rPr>
                        <a:t>Balúčistán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9"/>
                        </a:rPr>
                        <a:t>Pákistá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0"/>
                        </a:rPr>
                        <a:t>19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87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1"/>
                        </a:rPr>
                        <a:t>Pe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2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537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3"/>
                        </a:rPr>
                        <a:t>Erzincan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urec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87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mé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8760">
                <a:tc>
                  <a:txBody>
                    <a:bodyPr lIns="30600" rIns="30600" tIns="30600" bIns="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horásán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Írá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 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600" marR="306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rcRect l="51663" t="4199" r="4694" b="24213"/>
          <a:stretch/>
        </p:blipFill>
        <p:spPr>
          <a:xfrm>
            <a:off x="214200" y="139680"/>
            <a:ext cx="87156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99ff66"/>
                </a:solidFill>
                <a:latin typeface="Times New Roman"/>
              </a:rPr>
              <a:t>zemětřesení</a:t>
            </a:r>
            <a:br>
              <a:rPr sz="5400"/>
            </a:br>
            <a:r>
              <a:rPr b="0" i="1" lang="cs-CZ" sz="4400" spc="-1" strike="noStrike">
                <a:solidFill>
                  <a:srgbClr val="ff66ff"/>
                </a:solidFill>
                <a:latin typeface="Times New Roman"/>
              </a:rPr>
              <a:t>(oblast - datum - magnitu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57160" y="1143000"/>
            <a:ext cx="845820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Čile (22.5.1960)  9,5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ljaška (28.3.1964)  9,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ljaška (9.3.1957)  9,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sko (4.11.1952)  9,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kvádor (31.1.1906)  8,8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Japonsko (6.11.1958)  8,7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ljaška (4.2.1965)  8,7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die (15.8.1950)  8,6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rgentina (11.11.1922)  8,5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donésie (1.2.1938)  8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ásledky 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Documents and Settings\Tereza Nečesaná\Plocha\geologie\Geologie Tereza\Fyzická geografie\litosféra a georeliéf\endo\24-titulni_Profi.jpg"/>
          <p:cNvPicPr/>
          <p:nvPr/>
        </p:nvPicPr>
        <p:blipFill>
          <a:blip r:embed="rId1"/>
          <a:stretch/>
        </p:blipFill>
        <p:spPr>
          <a:xfrm>
            <a:off x="304920" y="1100160"/>
            <a:ext cx="8610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Documents and Settings\Tereza Nečesaná\Plocha\geologie\Geologie Tereza\Fyzická geografie\litosféra a georeliéf\endo\113027-article-2zd01.jpg"/>
          <p:cNvPicPr/>
          <p:nvPr/>
        </p:nvPicPr>
        <p:blipFill>
          <a:blip r:embed="rId1"/>
          <a:srcRect l="0" t="0" r="0" b="1305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C:\Documents and Settings\Tereza Nečesaná\Plocha\geologie\Geologie Tereza\Fyzická geografie\litosféra a georeliéf\endo\130422-article-sv3r4.jpg"/>
          <p:cNvPicPr/>
          <p:nvPr/>
        </p:nvPicPr>
        <p:blipFill>
          <a:blip r:embed="rId1"/>
          <a:srcRect l="0" t="8844" r="0" b="0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ejvětší zemětřesení v dějiná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96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tugalsko-Lisabon   8,7      17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ile                            8,6      1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ína                             8,2      1976 (neoficiálně 800 tis. obětí 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Documents and Settings\Tereza Nečesaná\Plocha\geologie\Geologie Tereza\Fyzická geografie\litosféra a georeliéf\endo\ap070802010218_3.jpg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:\Documents and Settings\Tereza Nečesaná\Plocha\geologie\Geologie Tereza\Fyzická geografie\litosféra a georeliéf\endo\balakot_pakistan_jo_212556c.jp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Documents and Settings\Tereza Nečesaná\Plocha\geologie\Geologie Tereza\Fyzická geografie\litosféra a georeliéf\endo\earthquake-main.jp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ásledky 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C:\Documents and Settings\Tereza Nečesaná\Plocha\geologie\Geologie Tereza\Fyzická geografie\litosféra a georeliéf\endo\Image2.jpg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ásledky 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C:\Documents and Settings\Tereza Nečesaná\Plocha\geologie\Geologie Tereza\Fyzická geografie\litosféra a georeliéf\endo\5_8_eq_fault.jpg"/>
          <p:cNvPicPr/>
          <p:nvPr/>
        </p:nvPicPr>
        <p:blipFill>
          <a:blip r:embed="rId1"/>
          <a:stretch/>
        </p:blipFill>
        <p:spPr>
          <a:xfrm>
            <a:off x="4518000" y="0"/>
            <a:ext cx="462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ww.zpravy.e15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blog.idnes.cz/blo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ww.novinky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ww.stranypotapecske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Zemětřesení na Sumatř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ěhlo 26. 12.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centrum bylo v hloubce 10km pod povrc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třesení bylo velmi mělké, magnitudo 9,1 - 9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to 5. největší zemětřesení na Z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šlo k němu na styku Barmské a Indické litosferické de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šlo k posunu desek až o 20m - tím vznikla obrovská masa vody – tsu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ergie, uvolněná zemětřesením = 23 000 atomových bomb, které byly svrženy na Hirošim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R byla seismická vlna zaznamenána po 12 minut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7 898 obyvatel zahynulo, z toho 8 Čech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42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sunami byla za několik minut v Indonésii, za 8 hodin pak dorazila do Somál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Earthquake Spawns Tsunamis"/>
          <p:cNvPicPr/>
          <p:nvPr/>
        </p:nvPicPr>
        <p:blipFill>
          <a:blip r:embed="rId1"/>
          <a:srcRect l="0" t="50732" r="0" b="0"/>
          <a:stretch/>
        </p:blipFill>
        <p:spPr>
          <a:xfrm>
            <a:off x="0" y="56664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Earthquake Spawns Tsunamis"/>
          <p:cNvPicPr/>
          <p:nvPr/>
        </p:nvPicPr>
        <p:blipFill>
          <a:blip r:embed="rId2"/>
          <a:srcRect l="0" t="0" r="0" b="50732"/>
          <a:stretch/>
        </p:blipFill>
        <p:spPr>
          <a:xfrm>
            <a:off x="0" y="56664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54" name="Obdélník 4"/>
          <p:cNvSpPr/>
          <p:nvPr/>
        </p:nvSpPr>
        <p:spPr>
          <a:xfrm>
            <a:off x="571680" y="14292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! v některých oblastech byla tsunami vysoká 17m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stangbangers.com/Tsunami2004_Pic05.jpg"/>
          <p:cNvPicPr/>
          <p:nvPr/>
        </p:nvPicPr>
        <p:blipFill>
          <a:blip r:embed="rId2"/>
          <a:stretch/>
        </p:blipFill>
        <p:spPr>
          <a:xfrm>
            <a:off x="0" y="4086360"/>
            <a:ext cx="4286160" cy="277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stangbangers.com/Tsunami2004_Pic04.jpg"/>
          <p:cNvPicPr/>
          <p:nvPr/>
        </p:nvPicPr>
        <p:blipFill>
          <a:blip r:embed="rId3"/>
          <a:stretch/>
        </p:blipFill>
        <p:spPr>
          <a:xfrm>
            <a:off x="4384800" y="3643200"/>
            <a:ext cx="4759200" cy="32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stangbangers.com/Tsunami2004_Pic03.jpg"/>
          <p:cNvPicPr/>
          <p:nvPr/>
        </p:nvPicPr>
        <p:blipFill>
          <a:blip r:embed="rId4"/>
          <a:stretch/>
        </p:blipFill>
        <p:spPr>
          <a:xfrm>
            <a:off x="0" y="0"/>
            <a:ext cx="4286160" cy="286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www.hoax-slayer.com/images/griffith-dust-storm.jpg"/>
          <p:cNvPicPr/>
          <p:nvPr/>
        </p:nvPicPr>
        <p:blipFill>
          <a:blip r:embed="rId5"/>
          <a:srcRect l="0" t="0" r="0" b="6246"/>
          <a:stretch/>
        </p:blipFill>
        <p:spPr>
          <a:xfrm>
            <a:off x="4419720" y="285840"/>
            <a:ext cx="4724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Tsunami zabíjely v Asii"/>
          <p:cNvPicPr/>
          <p:nvPr/>
        </p:nvPicPr>
        <p:blipFill>
          <a:blip r:embed="rId2"/>
          <a:stretch/>
        </p:blipFill>
        <p:spPr>
          <a:xfrm>
            <a:off x="3857760" y="2825640"/>
            <a:ext cx="5286240" cy="40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newxspotters.com/photoAlbums/tsunamiDestination/images/Tsunami%202004%208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214720"/>
            <a:ext cx="3219480" cy="476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stangbangers.com/Tsunami2004_Pic10.jpg"/>
          <p:cNvPicPr/>
          <p:nvPr/>
        </p:nvPicPr>
        <p:blipFill>
          <a:blip r:embed="rId5"/>
          <a:stretch/>
        </p:blipFill>
        <p:spPr>
          <a:xfrm>
            <a:off x="1071720" y="0"/>
            <a:ext cx="3143160" cy="214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www.stangbangers.com/Tsunami2004_Pic06.jpg"/>
          <p:cNvPicPr/>
          <p:nvPr/>
        </p:nvPicPr>
        <p:blipFill>
          <a:blip r:embed="rId6"/>
          <a:stretch/>
        </p:blipFill>
        <p:spPr>
          <a:xfrm>
            <a:off x="4857840" y="0"/>
            <a:ext cx="4286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 v Japonsku 20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1. března 2011 zasáhla Japonsko série velmi silných zemětřesení. Těžce zasažena byla rovněž jaderná elektrárna Fukušima Daiichi (hodnocení jaderné katastrofy se nakonec přirovnává k výbuchu elektrárny v Černobyl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picentrum zemětřesení bylo severovýchodně od Tokia, cca 130 kilometrů východně od města Sendai na ostrově Honšú. Síla zemětřesení byla klasifikována na 8,9 stupně Richterovy stupnice (!), což je jedno z nejsilnějších zemětřesení, které kdy bylo zaznamenáno v moderní historii lidst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trov Honsu se posunul o 2,5met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lou oblast zasáhla mohutná vlna tsunami, která pronikla hluboko do vnitrozem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blog.idnes.cz/blog/4426/181735/japan_quake_sendai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japan_quake_sendai.jpg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9:01:02Z</dcterms:created>
  <dc:creator>Tereza Kamenická</dc:creator>
  <dc:description/>
  <dc:language>en-US</dc:language>
  <cp:lastModifiedBy>Tereza Kamenická</cp:lastModifiedBy>
  <dcterms:modified xsi:type="dcterms:W3CDTF">2015-01-22T13:01:31Z</dcterms:modified>
  <cp:revision>106</cp:revision>
  <dc:subject/>
  <dc:title>mapa tektonické aktivity</dc:title>
</cp:coreProperties>
</file>