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1029-144E-4E86-9056-DA29406C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F00-3171-495F-AEE8-4927A8C8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46A6-FCEE-49FA-9BA0-6D03A4FD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382C-1395-4699-980F-647D21DE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018-E0D2-4056-9E18-8A3629BE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2ACB-E5E4-4AE9-8617-8272E744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8190-1974-427D-930E-9567EEF4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5B82-6036-48B9-9DC0-13C597C5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D27B-2A09-486E-9691-9ACC5F19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C89-9088-4D8B-9A36-36637EA0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8A77-C033-468A-96F5-461AA569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141E-DC4A-4166-B03B-98076BC5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E6E5-2AE6-46D4-A601-B458E07F13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OGENNÍ PROCES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věrečné opakování pro studenty s SV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916280"/>
            <a:ext cx="6400800" cy="15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r: Tereza Kamenick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2124000" y="3141720"/>
            <a:ext cx="575316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a obrázku vidíme krajinu vymodelovanou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dovcem, údolí je typicky ve tvaru písmene U a nazývá se tr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inností větru a v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ologickou erozí, hlavně činností rost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á se                                                                       o zarostlý                                                       impaktní                                                        krá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408676_4257784137326_1874676779_n"/>
          <p:cNvPicPr/>
          <p:nvPr/>
        </p:nvPicPr>
        <p:blipFill>
          <a:blip r:embed="rId1"/>
          <a:srcRect l="0" t="2577" r="0" b="4313"/>
          <a:stretch/>
        </p:blipFill>
        <p:spPr>
          <a:xfrm>
            <a:off x="2700360" y="2870280"/>
            <a:ext cx="644364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a obrázku vidíme krajinu vymodelovanou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66"/>
                </a:solidFill>
                <a:latin typeface="Arial"/>
              </a:rPr>
              <a:t>ledovcem, údolí je typicky ve tvaru písmene U a nazývá se tr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inností větru a v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ologickou erozí, hlavně činností rost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á se                                                                       o zarostlý                                                       impaktní                                                        krá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408676_4257784137326_1874676779_n"/>
          <p:cNvPicPr/>
          <p:nvPr/>
        </p:nvPicPr>
        <p:blipFill>
          <a:blip r:embed="rId1"/>
          <a:srcRect l="0" t="2577" r="0" b="4313"/>
          <a:stretch/>
        </p:blipFill>
        <p:spPr>
          <a:xfrm>
            <a:off x="2700360" y="2870280"/>
            <a:ext cx="644364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a obrázku vidím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820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ozní rýhy a str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jinu vymodelovanou ledovc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jinu, kde převažuje vodní a větrná ero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jinu, kde převažuje biologické zvětrá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579695_4257692095025_271608777_n"/>
          <p:cNvPicPr/>
          <p:nvPr/>
        </p:nvPicPr>
        <p:blipFill>
          <a:blip r:embed="rId1"/>
          <a:srcRect l="0" t="30539" r="0" b="0"/>
          <a:stretch/>
        </p:blipFill>
        <p:spPr>
          <a:xfrm>
            <a:off x="0" y="2637000"/>
            <a:ext cx="91440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a obrázku vidím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820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66"/>
                </a:solidFill>
                <a:latin typeface="Arial"/>
              </a:rPr>
              <a:t>erozní rýhy a str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jinu vymodelovanou ledovc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66"/>
                </a:solidFill>
                <a:latin typeface="Arial"/>
              </a:rPr>
              <a:t>krajinu, kde převažuje vodní a větrná ero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jinu, kde převažuje biologické zvětrá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579695_4257692095025_271608777_n"/>
          <p:cNvPicPr/>
          <p:nvPr/>
        </p:nvPicPr>
        <p:blipFill>
          <a:blip r:embed="rId1"/>
          <a:srcRect l="0" t="30539" r="0" b="0"/>
          <a:stretch/>
        </p:blipFill>
        <p:spPr>
          <a:xfrm>
            <a:off x="0" y="2637000"/>
            <a:ext cx="91440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a obrázku vidím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abrazi                        b) evor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) erozi                          d) fi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541303_4257685774867_462342692_n"/>
          <p:cNvPicPr/>
          <p:nvPr/>
        </p:nvPicPr>
        <p:blipFill>
          <a:blip r:embed="rId1"/>
          <a:stretch/>
        </p:blipFill>
        <p:spPr>
          <a:xfrm>
            <a:off x="971640" y="1809720"/>
            <a:ext cx="75960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a obrázku vidím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cs-CZ" sz="3200" spc="-1" strike="noStrike">
                <a:solidFill>
                  <a:srgbClr val="ff0066"/>
                </a:solidFill>
                <a:latin typeface="Arial"/>
              </a:rPr>
              <a:t>abrazi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b) evor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cs-CZ" sz="3200" spc="-1" strike="noStrike">
                <a:solidFill>
                  <a:srgbClr val="ff0066"/>
                </a:solidFill>
                <a:latin typeface="Arial"/>
              </a:rPr>
              <a:t>erozi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d) spra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541303_4257685774867_462342692_n"/>
          <p:cNvPicPr/>
          <p:nvPr/>
        </p:nvPicPr>
        <p:blipFill>
          <a:blip r:embed="rId1"/>
          <a:stretch/>
        </p:blipFill>
        <p:spPr>
          <a:xfrm>
            <a:off x="971640" y="1809720"/>
            <a:ext cx="75960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odopád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ají v místech, kde jsou odolnější horniny, které ještě nepodlehly vodní eroz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ají v místech, kde proběhlo zemětřesení a přerušilo tok ře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sou typické pro                                              meandrující ře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1935032_1167148753373_6769321_n"/>
          <p:cNvPicPr/>
          <p:nvPr/>
        </p:nvPicPr>
        <p:blipFill>
          <a:blip r:embed="rId1"/>
          <a:stretch/>
        </p:blipFill>
        <p:spPr>
          <a:xfrm>
            <a:off x="3390840" y="2543040"/>
            <a:ext cx="5753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odopád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66"/>
                </a:solidFill>
                <a:latin typeface="Arial"/>
              </a:rPr>
              <a:t>vznikají v místech, kde jsou odolnější horniny, které ještě nepodlehly vodní eroz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ají v místech, kde proběhlo zemětřesení a přerušilo tok ře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sou typické pro                                              meandrující ře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1935032_1167148753373_6769321_n"/>
          <p:cNvPicPr/>
          <p:nvPr/>
        </p:nvPicPr>
        <p:blipFill>
          <a:blip r:embed="rId1"/>
          <a:stretch/>
        </p:blipFill>
        <p:spPr>
          <a:xfrm>
            <a:off x="3390840" y="2543040"/>
            <a:ext cx="5753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ahorky ve tvaru homole, jsou typické pr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ápencové oblasti, kde dochází k chemické eroz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lasti, kde nejtvrdší horniny obrousil ledov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ískovcové skály vzniklé větrnou eroz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deltu řeky,                                                              vznikají                                                                akumulací                                                               unášeného                                                                materiá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1935032_1167149073381_1712899_n"/>
          <p:cNvPicPr/>
          <p:nvPr/>
        </p:nvPicPr>
        <p:blipFill>
          <a:blip r:embed="rId1"/>
          <a:srcRect l="0" t="7181" r="0" b="0"/>
          <a:stretch/>
        </p:blipFill>
        <p:spPr>
          <a:xfrm>
            <a:off x="3390840" y="2852640"/>
            <a:ext cx="57531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ahorky ve tvaru homole, jsou typické pr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66"/>
                </a:solidFill>
                <a:latin typeface="Arial"/>
              </a:rPr>
              <a:t>vápencové oblasti, kde dochází k chemické eroz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lasti, kde nejtvrdší horniny obrousil ledov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ískovcové skály vzniklé větrnou eroz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deltu řeky,                                                              vznikají                                                                akumulací                                                               unášeného                                                                materiá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1935032_1167149073381_1712899_n"/>
          <p:cNvPicPr/>
          <p:nvPr/>
        </p:nvPicPr>
        <p:blipFill>
          <a:blip r:embed="rId1"/>
          <a:srcRect l="0" t="7181" r="0" b="0"/>
          <a:stretch/>
        </p:blipFill>
        <p:spPr>
          <a:xfrm>
            <a:off x="3390840" y="2852640"/>
            <a:ext cx="57531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xogenní proces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jí zdroj energie převážně mimo zemské těl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ůsobí na zemském povrchu nebo nehluboko pod ní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dí se zákony geografické zonál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ůsobí prakticky na celém povrch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adíme mezi ně sopečnou činnost a zemětřes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403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 pouštích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643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vládá fyzikální ero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ikdy neprš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jdeme suchá říční koryta vádí, nebo cr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písčitých pouštích se vzhled krajiny velmi rychle mě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423207_3160373982758_854462785_n"/>
          <p:cNvPicPr/>
          <p:nvPr/>
        </p:nvPicPr>
        <p:blipFill>
          <a:blip r:embed="rId1"/>
          <a:stretch/>
        </p:blipFill>
        <p:spPr>
          <a:xfrm>
            <a:off x="4705200" y="0"/>
            <a:ext cx="443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403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 pouštích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643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66"/>
                </a:solidFill>
                <a:latin typeface="Arial"/>
              </a:rPr>
              <a:t>převládá fyzikální ero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ikdy neprš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66"/>
                </a:solidFill>
                <a:latin typeface="Arial"/>
              </a:rPr>
              <a:t>najdeme suchá říční koryta vádí, nebo cr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66"/>
                </a:solidFill>
                <a:latin typeface="Arial"/>
              </a:rPr>
              <a:t>v písčitých pouštích se vzhled krajiny velmi rychle mě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423207_3160373982758_854462785_n"/>
          <p:cNvPicPr/>
          <p:nvPr/>
        </p:nvPicPr>
        <p:blipFill>
          <a:blip r:embed="rId1"/>
          <a:stretch/>
        </p:blipFill>
        <p:spPr>
          <a:xfrm>
            <a:off x="4705200" y="0"/>
            <a:ext cx="443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yto tvary vznikl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hromaděním písečných zrn s ostrými hrana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umulací erodovaného materiá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ětrnou                                                       eroz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dní                                                          eroz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429650_3160374822779_1828547720_n"/>
          <p:cNvPicPr/>
          <p:nvPr/>
        </p:nvPicPr>
        <p:blipFill>
          <a:blip r:embed="rId1"/>
          <a:stretch/>
        </p:blipFill>
        <p:spPr>
          <a:xfrm>
            <a:off x="2124000" y="2192400"/>
            <a:ext cx="702000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yto tvary vznikl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hromaděním písečných zrn s ostrými hrana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66"/>
                </a:solidFill>
                <a:latin typeface="Arial"/>
              </a:rPr>
              <a:t>akumulací erodovaného materiá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66"/>
                </a:solidFill>
                <a:latin typeface="Arial"/>
              </a:rPr>
              <a:t>větrnou                                                       eroz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dní                                                          eroz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429650_3160374822779_1828547720_n"/>
          <p:cNvPicPr/>
          <p:nvPr/>
        </p:nvPicPr>
        <p:blipFill>
          <a:blip r:embed="rId1"/>
          <a:stretch/>
        </p:blipFill>
        <p:spPr>
          <a:xfrm>
            <a:off x="2124000" y="2192400"/>
            <a:ext cx="702000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yberte tvary vzniklé činností ledovců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77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udné balv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o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hlanovité vrcholy h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věrač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kalní poklič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u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jor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yberte tvary vzniklé činností ledovců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77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66"/>
                </a:solidFill>
                <a:latin typeface="Arial"/>
              </a:rPr>
              <a:t>bludné balv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o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66"/>
                </a:solidFill>
                <a:latin typeface="Arial"/>
              </a:rPr>
              <a:t>jehlanovité vrcholy h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věrač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kalní poklič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66"/>
                </a:solidFill>
                <a:latin typeface="Arial"/>
              </a:rPr>
              <a:t>tr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u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66"/>
                </a:solidFill>
                <a:latin typeface="Arial"/>
              </a:rPr>
              <a:t>fjor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a obrázku vidím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ří hrn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kaz vznikající abrazí                               na pobřež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řská voda si prorazila                                                cestu komínem vedoucím                            ze stropu jeskyně až                                   na pov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kaz označovaný jako                moré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426230_3160382502971_1180859265_n"/>
          <p:cNvPicPr/>
          <p:nvPr/>
        </p:nvPicPr>
        <p:blipFill>
          <a:blip r:embed="rId1"/>
          <a:stretch/>
        </p:blipFill>
        <p:spPr>
          <a:xfrm>
            <a:off x="5651640" y="1314360"/>
            <a:ext cx="34923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a obrázku vidím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ří hrn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66"/>
                </a:solidFill>
                <a:latin typeface="Arial"/>
              </a:rPr>
              <a:t>úkaz vznikající abrazí                               na pobřež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66"/>
                </a:solidFill>
                <a:latin typeface="Arial"/>
              </a:rPr>
              <a:t>mořská voda si prorazila                                                cestu komínem vedoucím                            ze stropu jeskyně až                                   na pov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kaz označovaný jako                moré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426230_3160382502971_1180859265_n"/>
          <p:cNvPicPr/>
          <p:nvPr/>
        </p:nvPicPr>
        <p:blipFill>
          <a:blip r:embed="rId1"/>
          <a:stretch/>
        </p:blipFill>
        <p:spPr>
          <a:xfrm>
            <a:off x="5651640" y="1314360"/>
            <a:ext cx="34923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to krajina vznikl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inností větru v různě odolných horniná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inností vody, jedná se o erozní rý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inností vody, jsou to úzké říční teras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inností                                                                  člověk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423286_3160384903031_594077500_n"/>
          <p:cNvPicPr/>
          <p:nvPr/>
        </p:nvPicPr>
        <p:blipFill>
          <a:blip r:embed="rId1"/>
          <a:srcRect l="0" t="0" r="5835" b="0"/>
          <a:stretch/>
        </p:blipFill>
        <p:spPr>
          <a:xfrm>
            <a:off x="2340000" y="2055960"/>
            <a:ext cx="68040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to krajina vznikl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inností větru v různě odolných horniná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inností vody, jedná se o erozní rý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inností vody, jsou to úzké říční teras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ff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0066"/>
                </a:solidFill>
                <a:latin typeface="Arial"/>
              </a:rPr>
              <a:t>činností                                                                  člověk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423286_3160384903031_594077500_n"/>
          <p:cNvPicPr/>
          <p:nvPr/>
        </p:nvPicPr>
        <p:blipFill>
          <a:blip r:embed="rId1"/>
          <a:srcRect l="0" t="0" r="5835" b="0"/>
          <a:stretch/>
        </p:blipFill>
        <p:spPr>
          <a:xfrm>
            <a:off x="2340000" y="2055960"/>
            <a:ext cx="68040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xogenní proces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66"/>
                </a:solidFill>
                <a:latin typeface="Arial"/>
              </a:rPr>
              <a:t>mají zdroj energie převážně mimo zemské těl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66"/>
                </a:solidFill>
                <a:latin typeface="Arial"/>
              </a:rPr>
              <a:t>působí na zemském povrchu nebo nehluboko pod ní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66"/>
                </a:solidFill>
                <a:latin typeface="Arial"/>
              </a:rPr>
              <a:t>řídí se zákony geografické zonál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66"/>
                </a:solidFill>
                <a:latin typeface="Arial"/>
              </a:rPr>
              <a:t>působí prakticky na celém povrch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adíme mezi ně sopečnou činnost a zemětřes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ří hrnce vznikají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31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dní erozí na spodním toku ře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ětrnou erozí v krajině bez veget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inností ledov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vorzí na horní části toku ře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207683_1034309912485_5542_n"/>
          <p:cNvPicPr/>
          <p:nvPr/>
        </p:nvPicPr>
        <p:blipFill>
          <a:blip r:embed="rId1"/>
          <a:stretch/>
        </p:blipFill>
        <p:spPr>
          <a:xfrm>
            <a:off x="5172120" y="1905120"/>
            <a:ext cx="3971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ří hrnce vznikají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31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dní erozí na spodním toku ře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ětrnou erozí v krajině bez veget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inností ledov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66"/>
                </a:solidFill>
                <a:latin typeface="Arial"/>
              </a:rPr>
              <a:t>evorzí na horní části toku ře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207683_1034309912485_5542_n"/>
          <p:cNvPicPr/>
          <p:nvPr/>
        </p:nvPicPr>
        <p:blipFill>
          <a:blip r:embed="rId1"/>
          <a:stretch/>
        </p:blipFill>
        <p:spPr>
          <a:xfrm>
            <a:off x="5172120" y="1905120"/>
            <a:ext cx="3971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1935032_1167145953303_2839314_n"/>
          <p:cNvPicPr/>
          <p:nvPr/>
        </p:nvPicPr>
        <p:blipFill>
          <a:blip r:embed="rId1"/>
          <a:stretch/>
        </p:blipFill>
        <p:spPr>
          <a:xfrm>
            <a:off x="0" y="741240"/>
            <a:ext cx="914400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283507_4257734416083_1929637827_n"/>
          <p:cNvPicPr/>
          <p:nvPr/>
        </p:nvPicPr>
        <p:blipFill>
          <a:blip r:embed="rId1"/>
          <a:stretch/>
        </p:blipFill>
        <p:spPr>
          <a:xfrm>
            <a:off x="0" y="781200"/>
            <a:ext cx="9144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557111_4257726735891_192907746_n"/>
          <p:cNvPicPr/>
          <p:nvPr/>
        </p:nvPicPr>
        <p:blipFill>
          <a:blip r:embed="rId1"/>
          <a:stretch/>
        </p:blipFill>
        <p:spPr>
          <a:xfrm>
            <a:off x="0" y="390600"/>
            <a:ext cx="9144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185099_4257714535586_1209058240_n"/>
          <p:cNvPicPr/>
          <p:nvPr/>
        </p:nvPicPr>
        <p:blipFill>
          <a:blip r:embed="rId1"/>
          <a:stretch/>
        </p:blipFill>
        <p:spPr>
          <a:xfrm>
            <a:off x="0" y="781200"/>
            <a:ext cx="9144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roze neboli zvětrávání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íky fyzikálnímu zvětrávání se horniny rozpadají aniž by se měnilo jejich chemické slož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krasových oblastech převládá fyzikální zvětrá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cká eroze převládá ve vlhkých trop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ologické zvětrávání zahrnuje např. prorůstání kořenů rost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p zvětrávání závisí na podneb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roze neboli zvětrávání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66"/>
                </a:solidFill>
                <a:latin typeface="Arial"/>
              </a:rPr>
              <a:t>díky fyzikálnímu zvětrávání se horniny rozpadají aniž by se měnilo jejich chemické slož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krasových oblastech převládá fyzikální zvětrá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66"/>
                </a:solidFill>
                <a:latin typeface="Arial"/>
              </a:rPr>
              <a:t>chemická eroze převládá ve vlhkých trop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66"/>
                </a:solidFill>
                <a:latin typeface="Arial"/>
              </a:rPr>
              <a:t>biologické zvětrávání zahrnuje např. prorůstání kořenů rost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66"/>
                </a:solidFill>
                <a:latin typeface="Arial"/>
              </a:rPr>
              <a:t>typ zvětrávání závisí na podneb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jte pojmy se správnou definic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30938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r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fi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vápene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l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škra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talakt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oré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843280" y="765000"/>
            <a:ext cx="6049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ledové krystaly, předstupeň ve vývoji ledovcového ledu</a:t>
            </a:r>
            <a:endParaRPr b="0" lang="en-US" sz="27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nesoustředěný povrchový odtok vody ze svahu</a:t>
            </a:r>
            <a:endParaRPr b="0" lang="en-US" sz="27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val z materiálu, který přinesl ledovec</a:t>
            </a:r>
            <a:endParaRPr b="0" lang="en-US" sz="27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ostrohranné rýhy ve vápencovém povrchu</a:t>
            </a:r>
            <a:endParaRPr b="0" lang="en-US" sz="27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mísovité terénní prohlubně velkých rozměrů</a:t>
            </a:r>
            <a:endParaRPr b="0" lang="en-US" sz="27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speleotém rostoucí směrem dolů</a:t>
            </a:r>
            <a:endParaRPr b="0" lang="en-US" sz="27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hornina s alespoň 50% CaCO3</a:t>
            </a:r>
            <a:endParaRPr b="0" lang="en-US" sz="27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jte pojmy se správnou definic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331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66"/>
                </a:solidFill>
                <a:latin typeface="Arial"/>
              </a:rPr>
              <a:t>ron - 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66"/>
                </a:solidFill>
                <a:latin typeface="Arial"/>
              </a:rPr>
              <a:t>firn -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66"/>
                </a:solidFill>
                <a:latin typeface="Arial"/>
              </a:rPr>
              <a:t>vápenec -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66"/>
                </a:solidFill>
                <a:latin typeface="Arial"/>
              </a:rPr>
              <a:t>polje - 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66"/>
                </a:solidFill>
                <a:latin typeface="Arial"/>
              </a:rPr>
              <a:t>škrapy -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66"/>
                </a:solidFill>
                <a:latin typeface="Arial"/>
              </a:rPr>
              <a:t>stalaktit - 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66"/>
                </a:solidFill>
                <a:latin typeface="Arial"/>
              </a:rPr>
              <a:t>moréna -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a obrázku vidíte krajinu nejvíce ovlivněnou činností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dov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lově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ět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1935032_1167149473391_7154023_n"/>
          <p:cNvPicPr/>
          <p:nvPr/>
        </p:nvPicPr>
        <p:blipFill>
          <a:blip r:embed="rId1"/>
          <a:stretch/>
        </p:blipFill>
        <p:spPr>
          <a:xfrm>
            <a:off x="2484360" y="2403360"/>
            <a:ext cx="665964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a obrázku vidíte krajinu nejvíce ovlivněnou činností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dov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66"/>
                </a:solidFill>
                <a:latin typeface="Arial"/>
              </a:rPr>
              <a:t>člově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ět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1935032_1167149473391_7154023_n"/>
          <p:cNvPicPr/>
          <p:nvPr/>
        </p:nvPicPr>
        <p:blipFill>
          <a:blip r:embed="rId1"/>
          <a:stretch/>
        </p:blipFill>
        <p:spPr>
          <a:xfrm>
            <a:off x="2484360" y="2403360"/>
            <a:ext cx="665964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6:52:50Z</dcterms:created>
  <dc:creator>geol p900-3</dc:creator>
  <dc:description/>
  <dc:language>en-US</dc:language>
  <cp:lastModifiedBy>O.Kamenický</cp:lastModifiedBy>
  <dcterms:modified xsi:type="dcterms:W3CDTF">2015-02-15T20:23:42Z</dcterms:modified>
  <cp:revision>121</cp:revision>
  <dc:subject/>
  <dc:title>Bez nadpisu</dc:title>
</cp:coreProperties>
</file>