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B5B70-B472-4F4A-B71A-FA03D9D67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87604-319C-4CCD-A91B-3A5D37722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D9A19-CB1B-454E-B93B-6DA29F997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B7819-49E7-49B4-BD5C-78B98959C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514A1-CEFE-4221-8B5A-E190904B7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1D1E3-8AE0-4AD6-85FD-8A37A5144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882F4-719F-49C1-8E16-2FFB29F1C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9A6B4-EF2F-47D8-8645-F26886830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203F0-759D-48E6-9B95-3A0968BEF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CA2B9-1157-4BAF-9E66-C701F34A1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C97E7-E2AD-4696-9F39-9F8A0EF46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E10F6-4C84-44BA-8B31-30B666690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4F002-E4B6-4AB8-8256-AF87882BE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8924A-7F44-4480-BD20-44951FBBF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9ACC0-CAB0-4428-BCB4-74511ACAC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F4DAC-7FD8-46DD-A5AF-34FCE3D05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E4C51-2902-48E9-B998-64129702C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E9688-52A5-401F-B782-3AE86D899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864E1-1344-49F5-B8B1-BC4FD2B51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9AA5C-5B1F-4E8F-9A3C-9F1356252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7428E-2ABB-42A0-8675-E2FB205D7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53DEC-4DD7-49B4-B7F5-15C3DBF57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1E4A9-E07D-49B0-9E24-1232339AE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721BB-CC4C-48AE-B98D-F17B37E38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30679-503D-410C-B8BE-DC650F49949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A3E90-79A7-46C6-A81E-638BA86E9AB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Závěrečné opakování Hydrosfér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32000" y="2133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teriál určený pro studenty se specifickými vzdělávacími potřebam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utor: Tereza Kamenická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4" name="Picture 7" descr=""/>
          <p:cNvPicPr/>
          <p:nvPr/>
        </p:nvPicPr>
        <p:blipFill>
          <a:blip r:embed="rId2"/>
          <a:stretch/>
        </p:blipFill>
        <p:spPr>
          <a:xfrm>
            <a:off x="2124000" y="3776760"/>
            <a:ext cx="5184720" cy="30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Umělé vodní nádrže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největší je vodní nádrž Tři soutěsky na řece Chuang Ch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mezi největší přehrady světa patří Owen Falls na Nilu, Bratská na Angaře nebo Násirova na Nil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s výstavbou umělých vodních nádrží se pojí řada ekonomických, ekologických i sociálních problémů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Umělé vodní nádrže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největší je vodní nádrž Tři soutěsky na řece Chuang Ch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Tahoma"/>
              </a:rPr>
              <a:t>mezi největší přehrady světa patří Owen Falls na Nilu, Bratská na Angaře nebo Násirova na Nil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Tahoma"/>
              </a:rPr>
              <a:t>s výstavbou umělých vodních nádrží se pojí řada ekonomických, ekologických i sociálních problémů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Vyberte správná tvrzení týkající se vodních toků: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vodí je území odvodňované jedním toke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ezodtoká oblast je oblast, ze které voda odtéká do jediného moř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úmoří je oblast, ze které všechna voda odtéká do jednoho moř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ozvodí je hranice mezi povodím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Vyberte správná tvrzení týkající se vodních toků: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ovodí je území odvodňované jedním toke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ezodtoká oblast je oblast, ze které voda odtéká do jediného moř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úmoří je oblast, ze které všechna voda odtéká do jednoho moř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rozvodí je hranice mezi povodím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Souhlasíte s následujícími grafy režimu odtoku?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http://www.ulozto.net/xB9ToRh/rezimy-odtoku-jp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0" y="1916280"/>
            <a:ext cx="9144000" cy="38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Vyberte správná tvrzení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průlinová voda se vyskytuje v nepropustných horninác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pramen je výstup podzemní vody na povrc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minerální voda musí obsahovat alespoň 2 promile rozpustných láte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v blízkosti uhličitých vod vzniká např. travertin nebo vřídlove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Vyberte správná tvrzení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průlinová voda se vyskytuje v nepropustných horninác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Tahoma"/>
              </a:rPr>
              <a:t>pramen je výstup podzemní vody na povrc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minerální voda musí obsahovat alespoň 2 promile rozpustných láte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Tahoma"/>
              </a:rPr>
              <a:t>v blízkosti uhličitých vod vzniká např. travertin nebo vřídlove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Ledovce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zkoumá vědní obor oceánografi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ozdělujeme na horské a pevninské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ezi ledovcová jezera patří např. Černé a Čertovo jezero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znikají akumulací sněhu v oblastech pod sněžnou čaro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Ledovce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zkoumá vědní obor oceánografi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rozdělujeme na horské a pevninské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mezi ledovcová jezera patří např. Černé a Čertovo jezer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znikají akumulací sněhu v oblastech pod sněžnou čaro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Vyberte správná tvrzení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-5972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ilance dějů výparu a kondenzace je globálně i lokálně v rovnováz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97240" indent="-5972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zásoby vody na Zemi jsou stálé (vody nepřibývá a neubývá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97240" indent="-5972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ydrosféra zahrnuje všechnu vodu na povrchu Země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97240" indent="-5972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jako moře označujeme části oceánu vybíhající do pevniny nebo ohraničené ostrov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97240" indent="-5972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ladké vody je na Zemi pouhých 6%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97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Vyberte správná tvrzení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-5972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ilance dějů výparu a kondenzace je globálně i lokálně v rovnováz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97240" indent="-5972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zásoby vody na Zemi jsou stálé (vody nepřibývá a neubývá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97240" indent="-5972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ydrosféra zahrnuje všechnu vodu na povrchu Země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97240" indent="-5972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jako moře označujeme části oceánu vybíhající do pevniny nebo ohraničené ostrov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97240" indent="-5972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sladké vody je na Zemi pouhých 6%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větový oceán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ejvětším oceánem je Tichý oceá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ůměrná salinita je 20promi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okud bychom chtěli získat průměrně slanou mořskou vodu, museli bychom rozpustit 35g soli v 1 litru vod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arva mořské vody je dána pohlcováním barev slunečního spektr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ovrchový teplotní průměr světového oceánu je 15°C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řská vody mrzne při teplotě 0°C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větový oceán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největším oceánem je Tichý oceá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ůměrná salinita je 20promi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pokud bychom chtěli získat průměrně slanou mořskou vodu, museli bychom rozpustit 35g soli v 1 litru vod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arva mořské vody je dána pohlcováním barev slunečního spektr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ovrchový teplotní průměr světového oceánu je 15°C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řská vody mrzne při teplotě 0°C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Vlnění mořské vody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lnění způsobené větrem můžeme na moři pozorovat v podstatě neustá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mutí je způsobeno endogenními proces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lavní příčinou proudění je neustálá cirkulace atmosfé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 Evropě zasahuje teplý Golfský prou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Vlnění mořské vody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vlnění způsobené větrem můžeme na moři pozorovat v podstatě neustá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mutí je způsobeno endogenními proces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hlavní příčinou proudění je neustálá cirkulace atmosfé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 Evropě zasahuje teplý Golfský prou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Jezera a vodní nádrže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-5788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mezi tektonická jezera patří např. Ladožské jezero a jezero Ontari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78880" indent="-5788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ledovcová jezera najdeme na severu Evropy, např. Ladožské a Oněžské jezer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78880" indent="-5788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limanovitá jezera vznikla přehrazením zátok, lagu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78880" indent="-5788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mezi nejznámější krasová jezera v Evropě patří např. Plitvická jezer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Jezera a vodní nádrže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-5788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mezi tektonická jezera patří např. Ladožské jezero a jezero Ontari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78880" indent="-5788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Tahoma"/>
              </a:rPr>
              <a:t>ledovcová jezera najdeme na severu Evropy, např. Ladožské a Oněžské jezer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78880" indent="-5788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Tahoma"/>
              </a:rPr>
              <a:t>limanovitá jezera vznikla přehrazením zátok, lagu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78880" indent="-5788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Tahoma"/>
              </a:rPr>
              <a:t>mezi nejznámější krasová jezera v Evropě patří např. Plitvická jezer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2T21:31:29Z</dcterms:created>
  <dc:creator>Tereza Nečesaná</dc:creator>
  <dc:description/>
  <dc:language>en-US</dc:language>
  <cp:lastModifiedBy>O.Kamenický</cp:lastModifiedBy>
  <dcterms:modified xsi:type="dcterms:W3CDTF">2015-04-20T20:20:10Z</dcterms:modified>
  <cp:revision>53</cp:revision>
  <dc:subject/>
  <dc:title>Oceánské a mořské proudy</dc:title>
</cp:coreProperties>
</file>