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951-D895-4E85-9C00-FCEA98A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E6C-08A9-4339-9992-F032A188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373-BD2D-4CF1-91D1-663ADA57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19E-3A68-4D80-86D6-F756D917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FC3-7857-4F07-90BE-6CB24E70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074-C480-4CDC-B49E-8BD2F4CC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9C5-DA37-4581-AA5C-734419F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3FB-26FE-4A0F-9AF7-AE1E6A74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C19-4780-4A52-9203-C5E4B20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DF7-292C-4C2E-BE3D-D74223C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43F-5C46-46B8-8BAC-31F1A79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149-A428-49EA-8039-1FD80B5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7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AB15-4BE1-4EB1-A5A9-EB2531AD42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Endogenní procesy</a:t>
            </a: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závěrečné opak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zentace pro studenty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utor: Tereza Kamenick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116000" y="2577960"/>
            <a:ext cx="7201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opk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270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ovulkány jsou ploché široké sop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títové sopky jsou typické tvarem kuž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ící sopky nevybuchly za 25000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títové sopky najdeme např. na Hav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suv vybuchl Pliniovským typem eru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pka Stromboli leží na Islan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mboro a Krakatau najdeme v Indoné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t.Pelee najdeme v Karib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aki je sopka v Itálii, která vybuchla nebezpečným Pelenejským typem eru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opk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270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ovulkány jsou ploché široké sop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títové sopky jsou typické tvarem kuž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ící sopky nevybuchly za 25000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štítové sopky najdeme např. na Hav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esuv vybuchl Pliniovským typem eru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pka Stromboli leží na Islan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Tamboro a Krakatau najdeme v Indoné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t.Pelee najdeme v Karib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aki je sopka v Itálii, která vybuchla nebezpečným Pelenejským typem eru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561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á se o otřesy zemské kůry vyvolané uvolněním napě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hnisko (hypocentrum) leží v zemské kůře nebo plá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picentrum je místo na povrchu, kolmo nad hypocent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likost zemětřesení měřená MCS stupnicí vychází ze statistického vyhodnocení účinků zemětřesení na budovy, osob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likost zemětřesení dle Richterovy stupnice vychází z měření seismometru (seismograf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chterova stupnice má 10 stupňů, MCS stupnice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třesení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561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jedná se o otřesy zemské kůry vyvolané uvolněním napě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ohnisko (hypocentrum) leží v zemské kůře nebo plá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epicentrum je místo na povrchu, kolmo nad hypocent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elikost zemětřesení měřená MCS stupnicí vychází ze statistického vyhodnocení účinků zemětřesení na budovy, osob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elikost zemětřesení dle Richterovy stupnice vychází z měření seismometru (seismograf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chterova stupnice má 10 stupňů, MCS stupnice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rogeneze a epeirogene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199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působí tlak horizontálním směrem, vznikají vrásná a příkrovová poho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moře ustupuje, jedná se o transgr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se pevnina zdvihá, jedná se o regr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i orogenezi často dochází k metamorfním proces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rogeneze a epeirogene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199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okud působí tlak horizontálním směrem, vznikají vrásná a příkrovová poho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moře ustupuje, jedná se o transgr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okud se pevnina zdvihá, jedná se o regr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i orogenezi často dochází k metamorfním proces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m endogenní energie jsou radioaktivní přeměny prvků uvnitř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závislí na vnějších podmínká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jevují se na povrchu i uvnitř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jich působením vznikají nerovnosti převážně velkých rozmě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jevují se v místech a obdobích zvýšené ak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ndogenní proces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75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zdrojem endogenní energie jsou radioaktivní přeměny prvků uvnitř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závislé na vnějších podmínká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rojevují se na povrchu i uvnitř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jejich působením vznikají nerovnosti převážně velkých rozmě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rojevují se v místech a obdobích zvýšené ak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ndogenní proces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2920" y="1628280"/>
            <a:ext cx="7054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á tavením hor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á tzv. magmatickým proces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oupá vzhůru díky vyšší hust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se dostane na zemský povrch označuje se jako l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gm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6920" y="1268280"/>
            <a:ext cx="76280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zniká tavením hor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zniká tzv. magmatickým proces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oupá vzhůru díky vyšší hust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okud se dostane na zemský povrch označuje se jako l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gm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teriál vyvržený sopkou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pečné bomby mohou být vyvrženy i daleko od sop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se láva rychle ochladí vodou, vzniká sopečný pí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zi pyroklastika patří všechny nesoudržné sopečné vyvržen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lké množství sopečného popela může ovlivnit k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teriál vyvržený sopkou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sopečné bomby mohou být vyvrženy i daleko od sop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se láva rychle ochladí vodou, vzniká sopečný pí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mezi pyroklastika patří všechny nesoudržné sopečné vyvržen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elké množství sopečného popela může ovlivnit k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vba sopk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920" y="1268280"/>
            <a:ext cx="7415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gma se hromadí v magmatickém kr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pečná erupce je vyvolána tlakem plynů uvolněných z magm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šířená část navazující na kráter se označuje jako jícen sop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pouch spojuje kráter s magmatickým krb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řícením sopky do magmatického krbu vzniká kal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razitické krátery se vytvářejí na svazích sopky jako alternativní cesty, kudy vystupuje magma na pov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vba sopk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920" y="1268280"/>
            <a:ext cx="7415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agma se hromadí v magmatickém kr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opečná erupce je vyvolána tlakem plynů uvolněných z magm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rozšířená část navazující na kráter se označuje jako jícen sop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opouch spojuje kráter s magmatickým krb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zřícením sopky do magmatického krbu vzniká kal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arazitické krátery se vytvářejí na svazích sopky jako alternativní cesty, kudy vystupuje magma na pov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0:55:42Z</dcterms:created>
  <dc:creator>Tereza Kamenická</dc:creator>
  <dc:description/>
  <dc:language>en-US</dc:language>
  <cp:lastModifiedBy>Tereza Kamenická</cp:lastModifiedBy>
  <dcterms:modified xsi:type="dcterms:W3CDTF">2015-01-22T12:59:58Z</dcterms:modified>
  <cp:revision>20</cp:revision>
  <dc:subject/>
  <dc:title>Edogenní procesy závěrečné opakování</dc:title>
</cp:coreProperties>
</file>